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396B-0FF7-4227-9A0E-44BDF9FC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B599-19EE-4862-B44E-32B1E8E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9A33-9CEB-4675-8D48-A59F4A43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368D-97CD-4ED2-9356-02FDF43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4966-684A-49AD-8AA9-8905357C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548F9-FE6B-4069-BE8E-FAE2513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1595D-8604-40ED-8A5D-4424DA1C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8165-A6DF-4B14-A8CA-76CBF05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A4618-D65E-43CB-A377-0742D7D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27E9-DADF-4CEB-AB2F-363AF82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604A3-A1CF-4432-9032-18F89DD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507F-03AE-4626-A7E4-FE04AAB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4A372-F1F7-4BCA-B6A6-924EEAE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6E6EB-D4E5-4FC5-A723-A389F72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C7FA6-6101-467B-9E4D-60082A1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096B-F600-4070-A12E-48A891DF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9C9C7-157A-4034-8918-463E33B3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2EAD-A5B6-4A7C-B45E-A280F957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0A0B-2E85-424E-9760-0297D99A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A9FB-0A4E-465A-8D3C-34739829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686E-113A-47E0-8CE8-1B265C4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A362-FB12-444B-AFD0-CDCDD68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017E-6053-4486-A91F-9F2A970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E57F-A6B5-46F6-850F-D7DDEDD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9D49-6D6A-4EF8-87FE-1E05678898F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867-4C33-41A4-937C-E8E3D78633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高等学校计算机基础课程系列教材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应用基础教程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43160" y="4495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编：高寅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东小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0880" y="6095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80880-65F6-4F61-A20D-449D88EC27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Book Antiqua"/>
              </a:rPr>
              <a:t>欢迎您使用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应用基础教程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0760" y="304920"/>
            <a:ext cx="69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 very much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4480" y="5715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ffff"/>
                </a:solidFill>
                <a:latin typeface="High Tower Text"/>
                <a:ea typeface="楷体_GB2312"/>
              </a:rPr>
              <a:t>中国水利水电出版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266400"/>
            <a:ext cx="7105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66"/>
                </a:solidFill>
                <a:latin typeface="宋体"/>
              </a:rPr>
              <a:t>目录</a:t>
            </a:r>
            <a:endParaRPr b="1" lang="en-US" sz="8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790280"/>
            <a:ext cx="7696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章   计算机概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章   中文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操作系统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三章   中文处理系统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Word 2000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章   中文电子表格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Excel 2000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五章   演示文稿软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owerPoint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六章   计算机网络基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章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FoxPro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基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第一章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Arial"/>
              </a:rPr>
              <a:t>   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计算机概述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1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计算机概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2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计算机的基本组成及工作原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3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计算机中的数制与编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　微型计算机的组成及配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5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计算机病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6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多媒体计算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二章   中文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Windows 98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操作系统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.1     Windows 9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2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知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3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操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4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桌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5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资源管理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6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S-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命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7  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控制面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8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文输入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9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附件程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10   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多媒体功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三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中文处理系统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Word 2000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  Word 2000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文档的基本操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3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文档的排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4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页面排版和打印文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图文混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6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表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7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邮件合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四章   中文电子表格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Excel 2000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1   Excel 20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基本知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2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建立工作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3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工作表的编辑及格式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4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管理和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5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4.6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页面设置和打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五章   演示文稿软件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PowerPoint 2000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91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5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创建演示文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5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编辑演示文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5.3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演示文稿的播放与打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第六章  计算机网络基础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191360" cy="42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1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计算机网络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2   Interne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基础知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3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拨号上网接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4   Interne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基本服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5   Window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网络功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6   Wor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网络应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7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网络安全知识简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第七章   </a:t>
            </a:r>
            <a:r>
              <a:rPr b="1" i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FoxPro </a:t>
            </a:r>
            <a:r>
              <a:rPr b="1" i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基础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3281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1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的基础知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2   FoxPr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3   Fox Pr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础知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4   FoxPr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基本操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5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的基本操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6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的排序、索引与查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7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统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8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数据库操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9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命令文件及其应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6:47:02Z</dcterms:created>
  <dc:creator>ya6</dc:creator>
  <dc:description/>
  <dc:language>en-US</dc:language>
  <cp:lastModifiedBy>ya6</cp:lastModifiedBy>
  <dcterms:modified xsi:type="dcterms:W3CDTF">2003-02-19T07:10:11Z</dcterms:modified>
  <cp:revision>4</cp:revision>
  <dc:subject/>
  <dc:title>高等学校计算机基础课程系列教材</dc:title>
</cp:coreProperties>
</file>