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FEB-239E-45C3-9CD5-6898E0BA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03B-2D3D-422E-A344-2A370AD8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E14-4413-4924-BE09-E17E378B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0AF-D29E-4DE5-8DA6-6915E9B5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BD5-51CE-4094-9299-375CE651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3FB-8526-463D-9A5A-2556314A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36A-1379-4ADA-B640-4D357E6F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C94-D4F2-4855-9D32-50DA8804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6E3-A8B3-4D8E-A8D4-D76A7A15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2D6-23BF-4D7A-BF1A-73FEC5F5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DC9-74F1-415B-A8D3-8FBBBCDC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783-9B7D-4729-B59C-F5C4331D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4146-1800-435F-B395-2B49487CD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60948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一页的页标头带区或者页注脚带区通常会包含一个页码。如果使用向导或快速报表，页码会自动插入页注脚带区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插入一个页号，从“报表控件”工具栏中插入一个域控件；在“报表表达式”对话框中选择“表达式”框后的对话按钮；在“表达式生成器”中，从“变量”列表中选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pagen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选择“确定”。在“报表表达式”对话框中，选择“确定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报表表达式”对话框中，选择“表达式”框后的对话按钮。在“格式”对话框中，为该字段选择数据类型：“字符型”、“数值型”或“日期型”。 “编辑选项”区域将会显示该数据类型下的各种格式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对齐方式和所需的格式选项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”对话框  “编辑选项”区域中所显示的选项随您所选定的数据类型的不同而不同。通过在“格式”框中键入字符，还可以建立一个格式模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7:17:05Z</dcterms:created>
  <dc:creator>pcn</dc:creator>
  <dc:description/>
  <dc:language>en-US</dc:language>
  <cp:lastModifiedBy>pcn</cp:lastModifiedBy>
  <dcterms:modified xsi:type="dcterms:W3CDTF">2002-01-06T07:19:51Z</dcterms:modified>
  <cp:revision>1</cp:revision>
  <dc:subject/>
  <dc:title>没有幻灯片标题</dc:title>
</cp:coreProperties>
</file>