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B6BE-5EEA-4D1B-A7E8-D2AB75E28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14C1-E19B-4B8E-9706-E33E09F0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A5BB-57CA-4DFF-A686-372B40C94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E7DE-02A3-4475-99E9-5F0BE889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C23D-B232-45BD-A1D6-DA7F9B5F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F9FF-0E12-4C4E-9A1F-356F0B82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E374-5EEA-48EB-963E-64FE0CCB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33DF-BEFD-4BA5-A1FC-40D9A1FB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116B-2038-475E-97A7-0FE34F6A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1AEF-F263-4616-B37B-EFFFE2FD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9DDE-FF29-481A-BD4E-850776E1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7FBF-2C81-4C35-B7EC-B1B546F8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F619-3018-4D9F-8FEC-609733E71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9480" y="380880"/>
          <a:ext cx="807732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2T17:36:17Z</dcterms:created>
  <dc:creator>pcn</dc:creator>
  <dc:description/>
  <dc:language>en-US</dc:language>
  <cp:lastModifiedBy>pcn</cp:lastModifiedBy>
  <dcterms:modified xsi:type="dcterms:W3CDTF">2002-01-06T20:51:38Z</dcterms:modified>
  <cp:revision>2</cp:revision>
  <dc:subject/>
  <dc:title>没有幻灯片标题</dc:title>
</cp:coreProperties>
</file>