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270-D5FF-47D5-9F0C-1EF54448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B80-CCE9-4840-AFE9-CE0B033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F06-F90E-42A7-9FD5-1C8648EF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188-9713-488E-811D-C41D14B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5E2-0A85-42B9-A9C0-9FDC34C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523-4D4E-40B2-8072-BD41FEF4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E3F-807F-4869-8F03-B974612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8E0-BF17-491A-8C73-34124BA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602-E9E0-40F2-8B3E-502A2835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767-B8F8-4D3E-9ED9-B8ECA14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A44-F503-4DB0-B638-948EDD7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18E-25FD-4C2C-A910-A385A03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5BD-1721-4CF5-8E9C-0EA44AED2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90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Visual FoxPro 6.0 </a:t>
            </a:r>
            <a:r>
              <a:rPr b="1" lang="zh-CN" sz="72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程序设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602240"/>
            <a:ext cx="51051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首都经济贸易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计算中心（西区）制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5812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楷体ＣＳ"/>
                <a:ea typeface="楷体ＣＳ"/>
              </a:rPr>
              <a:t>（阶段测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9060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如下命令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在要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追加新记录，但又不改变当前数据表的打开状态，应该使用命令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1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f1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       APPEND            APPEND          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  RELEASE 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功能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指定的内存变量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所有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所有文件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内存变量文件中的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中心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家教委考试中心”）的显示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12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“2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则下列表达式的运算结果为逻辑假的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B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579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A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如下命令序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100 TO 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200 TO Y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300 TO Y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A” 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Y&amp;N”TO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值应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命令中，能够关闭数据库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USE   B)CLOSE DATABASE   C)SET DB OFF    D)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以下命令序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#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    出生日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 ON  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日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TO 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命令序列后，记录显示顺序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38224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下列命令后，打开的数据库文件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=“WAGE”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WA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           B)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&amp;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        D)“WAG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'04/05/97'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屏幕上显示的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C      B)N      C)04/05/97          D)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数据表文件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前记录号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后，当前记录号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0      B)20     C)21        D)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当前数据表文件中“性别”字段的值全部清除，但仍保留该字段，应当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MODIFY STRUCTURE  B)DELETE  C)REPLACE   D)Z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管理系统中，内存变量文件的扩展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TXT     B)DBT     C)DBF       D)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表达式中，运算结果为字符串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“1234”-“43”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“ABCD”+“XYZ”=“ABCDXY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DTOC(DATE())&gt;“04/05/97”)    D)CTOD(“04/05/97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数据表文件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前记录号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计算工资总和，如果不给出范围短语，那么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计算当前记录工资值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全部记录工资值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工资值之和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工资值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[12]+[34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N    B)C     C)1234       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错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命令中正确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8 TO X,Y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8,9 TO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8,Y=9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Y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要删除一个未打开的数据表文件，应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ER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        B)DELET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ERASE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   D)CLO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5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”这七个汉字作为字符串常量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可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计算机等级考试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列命令中错误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TABLE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QUERY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查询结果不能输出的格式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图形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视图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浏览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清屏的命令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S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区别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按指定关键字排序，而后者按指定记录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按指定记录排序，而后者按指定关键字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改变了记录的物理位置，而后者却不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者改变了记录的物理位置，而前者却不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3240"/>
            <a:ext cx="8001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把两个数据表文件进行横向联接应选用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6 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对数据表的要求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未被打开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文件已按同一关键字段索引或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字段都为数值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文件是非空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执行以下赋值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‘5/6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[5*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=5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下列表达式中，合法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+B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+C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A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+B+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33520"/>
            <a:ext cx="83059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文件中，不必与数据表文件同时使用的文件只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IDX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CDX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列概念中正确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同一个工作区中，某一时刻只能有一个表文件处于打开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表文件可以被包含在不同的数据库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工作区中可以同时打开多个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生成的表文件可以与连接表文件在一个工作区同时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记录的记录号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EF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插入一条新的记录，该新记录的记录号应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能够进行条件定位的命令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SKIP     B) SEEK     C) LOCATE     D)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8088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O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QTY TO AQTY FOR ITEM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ITEM TO X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ON ITEM TO TTT FIELDS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EM            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硕主板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以上命令序列，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AQTY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241 B) 220 C) 164 D) 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0492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O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QTY TO AQTY FOR ITEM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ITEM TO X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ON ITEM TO TTT FIELDS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EM             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硕主板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以上命令序列后，数据表文件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TT.DBF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中的记录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7616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Visual FoxPro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阶段测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1676520" y="22946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阶段    数据库、查询与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676520" y="31820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阶段测验    结构化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676520" y="4956480"/>
            <a:ext cx="5867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76520" y="40694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阶段测验    综合测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执行命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5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6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LEFT(“FoxBAES”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下列表达式中，合法的表达式只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X+Y    B) Y+Z    C) X-Z+Y    D) &amp;X+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判断数值型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错误的条件表达式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MOD(Y,7)=0          B) INT(Y/7)=Y/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0=MOD(Y,7)          D) INT(Y/7)=MOD(Y,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下列语句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99.88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VAL(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&amp;Y=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以上语句序列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结果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99.88    B) .T.    C) .F.    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错信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x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在执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ATE AMERICA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不能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年份的命令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(DATE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DTOC(DATE())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DTOC(DATE(),1)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DTOC(DATE(),1),1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52280"/>
            <a:ext cx="8382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学生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H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学号、姓名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课程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CH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课程号、课程名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选课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K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学号、课程号、成绩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下述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XSH ALIAS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H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KCH ALIAS 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H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X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O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O K ADD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上述命令序列后，以下查询命令一定正确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，姓名，课程名，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K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SH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KCH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3049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填空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使日期型数据能够显示世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该使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(SPACE(3)-SPACE(2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不使用索引的情况下，为了定位满足某个逻辑条件的记录应该使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考生数据表已经打开，数据表中有“年龄”字段。现要统计年龄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考生人数，并将结果存储于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应该使用的完整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BYE”$“GOOD BY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字符串“清华大学”中取出“华”字，应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第三条到第五条记录的命令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RECNO()&gt;2 .AND.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1=“US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2=“.F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3=“.T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.NOT.&amp;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将显示当前目录中扩展名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819000"/>
            <a:ext cx="85345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操作题：写出完成下列要求的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姓名、民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数据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它们之间建立逻辑连接，然后为每个少数民族考生的成绩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，最后显示全体考生的学号、姓名和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姓名、民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数据表。在它们之间建立物理连接，生成一个新的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S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求包括学号、姓名、成绩三个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，通过学号建立分类汇总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0592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程序设计测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号：         姓名：        班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过程文件可以包含多个过程，每个过程的第一条语句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PARAMETER       B)DO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               D)PROCEDURE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条命令，需要以回车键表示输入结束的命令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)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             D)IN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7632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阅读下列程序，此程序执行后的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5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 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程序的执行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=1 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S+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382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执行下列程序，其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[13+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13+7]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+7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有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CX.PRG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CX1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K1=K1+'200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='12'              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ZC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ZC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程序后，屏幕显示的结果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2     B)12      C)12         D)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      212       12200 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6656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执行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？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S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最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    B)3    C)5    D)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用于建立过程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G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CREATE RPOG1     B)MODIFY COMMAND PR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MODIFY PROG1     D)EDIT PR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A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九八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?BB+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CC+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程序后，屏幕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九八年第一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九八年第一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程序如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ZF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.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ZF=M-&gt;ZF+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-&gt;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内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M    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该程序的结果应当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100.00     B)1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1600.00     D)12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83818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阶段测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      姓名：      班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管理系统的数据模型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系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网状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层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备注型字段，该数据表的备注文件数目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为数值型、字符型、逻辑型内存变量。在下面的表达式中错误的表达式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*N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-“A”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0.OR.L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数据库中的三种基本操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、查找、打印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扫描、选择、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、投影、连接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、排序、打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当前数据表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为真时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-76320"/>
            <a:ext cx="86108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有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K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I&lt;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J&lt;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(I,J)=I*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K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此程序的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 2 3    B)1 2   C)1 2 3   D)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4 6        3 2       1 2 3       2 4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WHILE N&gt;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M+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=N+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行此程序显示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)0   B)10   C)100   D)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7632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.PRG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1.P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                    X2=X2+1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2 TO X1,X2,X3       DO Z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1=X1+1                                X1=X1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Z1                                  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1+X2+X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2.P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3=X3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 TO 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Z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，屏幕显示的结果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9   B)10  C)3   D)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561960"/>
            <a:ext cx="84582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CX.PRG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CX1.P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T TALK OFF            K1=K1+'200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='AB'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ZCX1                     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ZC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后，屏幕显示的结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)AB         B)AB200     C)AB200    D)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B200      AB200          AB             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3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题 设有两个数据表文件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XUES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HENGJ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，分别保存某班学生的情况及考试成绩。其结构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XUES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文件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字段名  类型  宽度  小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姓名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HENGJ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结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字段名  类型  宽度  小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号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绩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N     3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下列程序的功能是列出平均成绩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的学生学号、姓名和平均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CT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CHENGJ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CT 2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XU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868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JUNFEN FOR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1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6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JUNF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JUN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ALL                       D)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. A)SELECT l     B)SELECT 2  C)SKIP        D)GO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.A)SKIP              B)SKIP -1       C)GO TOP  D)G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55600"/>
            <a:ext cx="83818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题 打开数据表文件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GZ.DBF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后，执行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命令，屏幕显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RECORD#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姓名     性别  职称    工资   奖金  实发工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李钢     男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45       50            2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孙延生 男    工程师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00       70            3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王明     女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25       40            2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马芳香 女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55       70            3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赵福生 男    工程师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20       70            3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运行下列程序段执行的功能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＝“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的所有职工的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、名字为“王明”的职工记录逻辑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名字为“王明”的所有职工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、名字为“王明”的职工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93840"/>
            <a:ext cx="815328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运行下列程序段执行的功能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＝“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奖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奖金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性别为“男”的所有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的所有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将性别为“女”的当前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将性别为“男”的当前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填空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奇数之和，试将下列程序补充完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0~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奇数之和为：”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19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庆祝澳门回归祖国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之后，要在屏幕上显示“澳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回归祖国！”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SUBSTR(XY,1,10)+SUBSTR(XY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,10)+RIGHT(XY,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0)+RIGHT(XY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0)+RIGHT(XY,19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=3.14159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1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2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数据表文件中有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型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如下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 sname  WITH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丹樱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96720"/>
            <a:ext cx="82296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3—27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题有四个数据表，表文件名及其中各字段名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               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教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姓名 班级                     职工号  教师  姓名 课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安排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  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安排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班级  课号                                课号 课程名称  教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要求按学号顺序给出每个学生所要学的课程名称、任课教师姓名及教室。程序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NDEX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23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TO Tl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JOIN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458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1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1T3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-7632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以下是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~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阶乘的程序，请将程序补充完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J&lt;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I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17360"/>
            <a:ext cx="86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阅读下列程序，并给出运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0 TO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INT(X/2)=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S1+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MOD(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S2+X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INT(X/2)&lt;&gt;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=S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以上程序后，屏幕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1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82560"/>
            <a:ext cx="85341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s.d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有成绩字段（数值型），其值为全国计算机等级考试考生成绩。有如下程序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.NOT.EOF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=MAX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绩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以上程序后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命令显示的数据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32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228600"/>
            <a:ext cx="8458200" cy="61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共有五个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d1.dbf——std5.dbf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面程序的功能是删除每个表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件的末记录。请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 n&lt;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b=__33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&amp;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=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304920"/>
            <a:ext cx="89154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程序的功能是根据销售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le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据去修改库存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ventry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，请对程序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inv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__34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品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品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金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35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80880"/>
            <a:ext cx="8305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程序段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0 TO X,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=Y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Y=”+STR(Y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个程序执行后的结果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36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2848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经建立了工资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Z.D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要修改其中水电费字段值，请在下面程序中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将水电费字段清零吗？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/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___37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电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ROWS FIELD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姓名，水电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763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下列程序，若依次输入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,8,2.5,3,2,2,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输出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8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9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I&lt;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A=”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A&gt;INT(A).OR.A&gt;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B=”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B=INT(B).AND.B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A+B=”,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有多条记录的数据表打开后，要在第一条记录后增加一条空记录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BEFORE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表达式中，结果为字符型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5”-“100”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YZ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XY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OD(“07/01/97”)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(DATE())&gt;“07/01/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根目录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.PR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复制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中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A:\STD.PRG C:\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A:\STD.PRG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A:\STD.PRG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职工数据表和按“工作日期”索引的索引文件已经打开，要把记录指针定位到工作刚好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的职工，应当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 DATE()-30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 DATE()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 DATE() 30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 DATE()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33440"/>
            <a:ext cx="861048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下列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G.PRG**        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PRO.PRG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          PRIVAT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学们”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BLIC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们好！”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                   Y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                   Z=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SUBPRO                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”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”,Z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PR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___40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___41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28600"/>
            <a:ext cx="5562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综合测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         姓名：        班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316160"/>
            <a:ext cx="88390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单选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数据库文件的扩展名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      B).DBF     C) .CDX     D) .DB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共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   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N(STR(20356.56,5)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的类型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字符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值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逻辑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通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不能关闭数据表文件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EAR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DATABASE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=“567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amp;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类型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值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字符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日期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逻辑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以下各表达式中，属于数值型表达式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+8”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(“B”,“A BOOK”)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0&gt;50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E()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下列命令的执行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=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=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=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N.AND..NOT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 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T.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职工档案”表文件中，婚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字段（其中，已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），性别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字段，若检索“已婚的女同志”，应该用逻辑表达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婚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已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婚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已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下列有关数组的说法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的赋值只能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O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命令实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不是一种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在定义之后，不能进行重新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数组只有一维数组和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CTOD('03/09/94')TO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类型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日期型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值型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备注型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已经定义了一个二维数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数组元素的值依次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又定义了一个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2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(2,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显示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变量未定义的提示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(568.78,-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的值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68.8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70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69 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5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如果将日期格式设置成“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”的形式，应使用的命令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DATE TO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SI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MERICAN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DY 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以下命令中，可以显示“大学”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4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5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9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5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9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如果想恢复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命令删除的若干记录，应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CALL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键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LEASE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当前数据表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真时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清除当前所有其名字的第二个字符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存变量，应该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*X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?X*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打开的表文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Y.DB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当前记录位置为记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将记录指针移向记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IP 100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IP 30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 –30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，其范围子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执行该命令后，记录指针指向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记录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末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记录的前面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末记录的后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3808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2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“456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下列表达式值为假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=B).OR.(B $“AB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 $'ABC').AND.(A&lt;&g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&lt;&g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&gt;=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数据表已经在当前工作区打开，为了在文件中某条记录的后面增加一条空记录，应该使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BLANK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LANK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非嵌套程序结构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基本程序结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——ENDTEXT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——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——ENDIF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——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457200"/>
            <a:ext cx="830592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分别打开两个数据表，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两个表的公共字段名，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新数据表名。在工作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联接命令，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DBN FOR &amp;AA=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DBN FOR AA=B-&gt;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&amp;DBN FOR &amp;AA=B-&gt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&amp;DBN FOR &amp;AA=B-&gt;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函数的结果为数值型数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)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)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从某个表文件中真正删除一条命令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5416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显示物理、化学、语文中至少有一门不及格的学生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如果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工作区打开了“学生表”文件后，又进入了别的工作区，当要从别的工作区返回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工作区时，可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以上都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当需要对满足条件的全部记录进行操作时，以下关于条件短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说明，正确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使用索引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用在任何需要条件短语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可以用在记录已经排序的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572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运行如下的程序，其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3  9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9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6  9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3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打开的数据表文件中有工资字段（数值型），如果把所有记录的工资增加百分之十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如果需要在数据表中增加一个字段，可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                   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3049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数据表结构包括职称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C/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N/6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求按工资升序，工资相同者按职工号升序，建立索引文件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D 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ST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6,2)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 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命令中错误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TABLE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QUERY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F(“600”&gt;“66”,600,6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0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6    C) .T.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只显示打开的数据表文件中当前记录的内容，应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不能作为查询输出格式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临时表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视图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签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数据表文件已经在当前工作区打开，有关索引文件已经建立，要打开该数据表文件的某索引文件，应该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 INDEX  TO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INDEX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INDEX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必须与数据表文件一起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对数据表文件分别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进行复制时，以下叙述中错误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必须先打开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数据表必须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同时复制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同时复制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功能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区号最小的空闲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区号最大的空闲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当前工作区的区号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随机选择一个工作区的区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面有关交叉表查询的说法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只能使用一个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可以使用多个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交叉表查询可以更改数据表中的相关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是在两个表中交叉进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可以给数值型内存变量和字符型内存变量输入数据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PT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AA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把内存变量存储到磁盘上，该文件的文件名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       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MEM    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执行下列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=“USE TMP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显示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       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执行任何操作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P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049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多选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若刚打开的表文件中有字符型字段“姓名”，按“姓名”建立的索引文件也已打开。现要查找姓名为“王明”的记录，正确的命令应该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要删除当前目录下的一个数据表文件“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当前工作区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，如果要引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中打开的数据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GZ.DBF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字段“工资”的值时，可以使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Z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3059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数据库系统采用的三种模型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44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其中关系型数据库的三种基本操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45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层次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混合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网状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环状型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关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选择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查找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投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连接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显示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打印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能够显示表文件中所有记录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 ALL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AL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程序填空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.PR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功能是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所有奇数的平方和并输出结果，请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*A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4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48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9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1~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有数据表文件 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保存某班学生的考试成绩。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字段：学号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姓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数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语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英语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平均成绩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下列程序是用来统计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每门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人数，并调用子程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E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结果。如果某门课程没有高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的，则不显示；否则就显示，并要求显示的数字前没有空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               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O X,Y,Z                    Z=Z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.EOF()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5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                          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                                DO CHECK WITH X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                                    DO CHECK WITH Y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                          DO CHECK WITH Z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Y+1                    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380880"/>
            <a:ext cx="83818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CHECK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=LEN(LTRIM(STR(VAR1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R2+“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人数是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STR(VAR1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+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~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以下是一个输入口令检查程序。口令设定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允许用户输入三次口令，如果三次输入错误，则显示有关信息，退出应用程序，如果口令正确，则打开“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，显示该文件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PT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口令：”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360360"/>
            <a:ext cx="83055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UPPER(K1)&lt;&gt;“STUD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=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误，不能使用此系统，再见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9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514440"/>
            <a:ext cx="83059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阅读下列程序，此程序执行后的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0 TO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MOD(X,5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Y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程序中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主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SUB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VA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W*L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MAIN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3906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~7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用编辑框、文本框、按钮、标签构成一个表单。在标签中显示以下文字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和是：”；运行表单，点击“开始”按钮后，进行计算，在编辑框中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；在文本框中显示计算结果，单击“清除”按钮，将编辑框中的结果清除。完成上述任务，应该使用“开始”按钮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，同时将标签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值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和是：”，将文本框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值置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6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开始”按钮的事件代码如下，请将其补充完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X=101 TO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67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EDIT1.VALUE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6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EDIT1.VALUE+STR(X,5)+CHR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.TEXT1.VALUE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70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请编写“清除”按钮的事件代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中，不能修改数据记录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面命令中，执行效果一定相同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g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④、②和③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③、②和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②、③和④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、②、③和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已打开的数据表文件中有“姓名”字段，此外又定义了一个内存变量“姓名”。要把内存变量姓名的值传送给当前记录的姓名字段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姓名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ATHER FROM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写命令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某数据库有学生档案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da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学生成绩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cj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张数据表。前者有字段：“姓名”、“学号”、“性别”；后者有字段：“学号”、“数学”、“外语”。现要求两张表以“学号”关联为基础，以“外语”成绩为序，列出“外语”成绩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每个学生的“姓名”、“学号”和“外语”成绩。请写出能实现此要求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-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名词解释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软件中经常出现以下的名词，其对应的中文名称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打开数据表，其中出生年月字段为日期型，年龄字段为数值型。要计算每条记录今年的年龄并把其值填入年龄字段中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YEAR(DATE())-YEA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DATE()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DTOC(DATE())-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VAL(SUBS(DTOC(DATE()),7,2) - SUBS(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7,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AB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具有两个备注型字段的数据表文件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PS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进行复制操作，其结果将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和一个新的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和两个新的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出错误信息，表明不能复制具有备注型字段的数据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906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出生年月字段为日期型，日期格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d/mm/yy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四组命令中各命令功能完全等效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4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B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7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E “97”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长度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）的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03:59:03Z</dcterms:created>
  <dc:creator>xsy</dc:creator>
  <dc:description/>
  <dc:language>en-US</dc:language>
  <cp:lastModifiedBy>yao</cp:lastModifiedBy>
  <dcterms:modified xsi:type="dcterms:W3CDTF">2001-12-26T14:35:09Z</dcterms:modified>
  <cp:revision>28</cp:revision>
  <dc:subject/>
  <dc:title>没有幻灯片标题</dc:title>
</cp:coreProperties>
</file>