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FBEF-993F-4538-B0FB-EA8C090AD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1B04-9323-4683-9FFE-05B52CA5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16A2-DBE6-4FB4-9A86-5F9715B30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67B2-52C2-432C-A4E1-FD12DF1E4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CB07-335E-43D5-8F27-7CA1C38A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0151-5EDB-40E8-9489-0D9A7D6A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46C5-F9FE-485C-B70B-55E02D2B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8B04-1265-4A88-B3D7-C8A181CC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D0B0-C872-4E62-9B00-AAA588A5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5CE0-5657-4EEE-985A-DA6DE4C1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259E-0B66-4482-AC5A-CB8A0791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7AEA-ABFE-424D-B358-196CF81F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6606-792A-42C2-B138-1A0294F65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457200"/>
            <a:ext cx="75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为“退出”按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ic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事件编写代码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le thi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stor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果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-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666880" y="2514600"/>
          <a:ext cx="3686400" cy="22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514600"/>
                    <a:ext cx="3686400" cy="22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2895480" y="48769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8-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53341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本例题设计时应注意：“课程号”按钮与文本框一、“课程名”按钮与文本框二在使用上的配合一致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编写“开始”按钮程序代码时应严谨统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3T00:10:23Z</dcterms:created>
  <dc:creator>pcn</dc:creator>
  <dc:description/>
  <dc:language>en-US</dc:language>
  <cp:lastModifiedBy>pcn</cp:lastModifiedBy>
  <dcterms:modified xsi:type="dcterms:W3CDTF">2002-01-03T00:30:39Z</dcterms:modified>
  <cp:revision>1</cp:revision>
  <dc:subject/>
  <dc:title>没有幻灯片标题</dc:title>
</cp:coreProperties>
</file>