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11D-0D0F-4D0B-A989-8E84FC8C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F4E-1FA5-4922-8793-BF1E5921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440-6348-4425-8F9C-C13A33CD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461-5AB9-4E15-9A37-DF02A5CE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B10-2617-4F5F-92C5-6005AB1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C15-0727-4E73-8C34-0BC55041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66D-1553-498E-8811-D9B1A6D5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64-C9E3-48D1-8F1F-B8D9729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CB2-28A5-487E-A654-26E3F9A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59F-288F-4B4E-8015-780832A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23C-8955-4236-8D33-0775D64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2C5-0677-4723-B5A6-7C615B2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F87-ABF1-4F76-8CD9-ED8B10FD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9250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cx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tivat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ner jo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ner jo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valu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cx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tivat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室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value2 order b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06:52Z</dcterms:created>
  <dc:creator>pcn</dc:creator>
  <dc:description/>
  <dc:language>en-US</dc:language>
  <cp:lastModifiedBy>pcn</cp:lastModifiedBy>
  <dcterms:modified xsi:type="dcterms:W3CDTF">2002-01-03T00:10:14Z</dcterms:modified>
  <cp:revision>1</cp:revision>
  <dc:subject/>
  <dc:title>没有幻灯片标题</dc:title>
</cp:coreProperties>
</file>