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679-B4DE-4082-9ADC-7BAEA890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54F-ED55-413C-B167-FC737016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C00-5C96-4D0B-BB9A-EEF03E4E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E8C-7597-4489-BF9E-A6FEFB3C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B4A-7CEF-405D-A527-5D3E702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7D0-F421-4672-9852-25B86935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5AC-CB81-402F-AC23-9AE23A1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9A5-F7EB-4D8A-A6D1-AE52F80B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58E-3229-4A0F-8F9A-7C7F08D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1E6-166D-4FE1-92A9-A52A1B8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D14-B5EA-4DB0-84AB-AAF417D3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6CE-BC74-4486-B562-46483DB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DD3-846A-4163-80BB-671C3A4F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十章 菜单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784872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菜单系统结构及其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结构及其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3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”、“显示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规划原则、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文档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编程方式添加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组各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菜单创建实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380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文档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219320"/>
            <a:ext cx="845820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文档菜单是出现在单文档界面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窗口中的菜单。如果要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，必须在设计菜单时指出该菜单用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。除此之外，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的过程与创建普通菜单完全相同。具体操作为：打开“菜单设计器”，从“显示”菜单中选择“常规选项”，并选择“顶层表单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创建好后，可以在菜单上设置菜单项。每个菜单项都表示了一个我们希望用户执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或过程，菜单项也可以包含子菜单，用以提供其他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0.2.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组各菜单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增强可读性，可使用分隔线将内容相关的菜单项分隔成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名称”栏中，键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便可以创建一条分隔线。拖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符左侧的按钮，可以将分隔线移动到正确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30120"/>
            <a:ext cx="7848360" cy="39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每个菜单项，都可以创建包含其他菜单项的子菜单。如果需要在菜单项中添加子菜单，可进行如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设计器的“菜单名称”栏中，选择要添加子菜单的菜单项；在“结果”框中，选择“子菜单”，此时“创建”按钮会出现在列表的右侧。如果已经有了子菜单，则此处出现的是“编辑”按钮，用鼠标单击“创建”或“编辑”按钮。然后在“菜单名称”栏中，键入新建的各子菜单项的名称。在子菜单建立完成后，如果还需要建立其他的菜单项，在“菜单级”的下拉列表中选择“菜单栏”选项，则可以继续建立其他的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编程方式添加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既可以使用“菜单设计器”创建菜单和菜单项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来创建。例如，创建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A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创建子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OP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而在子菜单上创建菜单项则可以使用一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BA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533520"/>
            <a:ext cx="81532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菜单系统结构及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结构及其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在使用软件查找信息之前，首先看到的便是菜单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菜单系统实际上是一个树型结构。菜单栏是指菜单最上面的一层，即几乎所有应用程序都有并始终都可看到的菜单名列表栏；菜单栏中的每个菜单名代表了一个主菜单选项，主菜单项的名称即菜单标题。例如：“文件”是一个主菜单项的标题，点击主菜单项将它展开，显示它所具有的子菜单选项。每一个主菜单项可以直接对应于一条命令或过程；一般每个主菜单对应有一个下拉菜单，下拉菜单中包含了一组菜单项；如果是对应于一个子菜单，则子菜单里又可包含一组相关的菜单项，它们又分别对应于一个子菜单或直接对应于一条命令，从而形成一个不断分支的树型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923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菜单设计得很好，那么用户只要根据菜单栏和与之配套的工具栏的组织形式和内容，就可以很好地理解应用程序要点及其所能提供的主要功能，为恰当地设计菜单栏和工具栏，实现应用程序的主要功能实现。提供了“菜单设计器”，用来创建菜单。打开菜单设计器的方法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常用工具栏上单击“新建”按钮，在“新建”“文件类型”列表中选择“菜单”单选项，然后单击“新建文件”按钮，出现“新建菜单”窗口，用鼠标单击其中的“菜单”按钮，出现“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“文件”菜单中，选择“新建”菜单项，出现“新建”窗口，以后操作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项目管理器，即在项目管理器中选择“菜单”，然后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命令，其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MEM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菜单文件，扩展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允许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3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”、“显示”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95280"/>
            <a:ext cx="815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菜单设计器时，系统菜单将添加一个“菜单”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速菜单：用于快速设计菜单。打开“菜单设计器”，尚未输入任何其它内容时该选项是活动的。选择它，可将系统菜单的内容提取到当前菜单设计器中显示，亦可对该菜单进行修改调整，形成一个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菜单项：在当前菜单项下插入一个菜单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栏：显示插入系统菜单条对话框，它允许向菜单设计器窗口中添加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菜单项：删除当前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：激活生成对话框，根据当前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文件，生成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P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程序代码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览：菜单预览，演示设计的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使用菜单设计器时，“显示”菜单（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）中将添加如下菜单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规选项”对话框：将激活一个常规选项对话框，它允许为整个菜单系统指定代码。该对话框提供如下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编辑”框：在这里输入菜单过程代码。如果代码过多超出编辑域，编辑域右侧的滚动条将被激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”按钮：按下“编辑”按钮将打开一个编辑窗口来输入菜单过程的代码。要进入编辑窗口编写程序，按“确定”按钮关掉对话框就可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区：包含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替换：将现有的菜单系统替换成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追加：将定义的菜单附加在现有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后：将定义的菜单插入到指定菜单的后面。选中这一选项将出现一弹出列表，其中列出了当前菜单系统的菜单名，可从中选择一个菜单名，已定义的菜单将出现在该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前：将用户定义的菜单插入到指定菜单前。选中这一选项将出现一弹出列表，列出了当前菜单系统的菜单名。可从中选择一个菜单名，用户定义菜单出现在该菜单的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3808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代码：包括两个复选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：选中这一项将打开一编辑窗口，从中可为菜单系统加入一段初始化代码。要进入打开的设置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理：选中这一项将打开一个编辑窗口，从中可为菜单系统加入一段结束代码。要进入打开的结束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层表单：如果选定该复选框，将允许该菜单在顶层表单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中使用；如果未选定，只允许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框中使用该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“单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选择“显示”菜单中的“菜单选项”时将显示“菜单选项”对话框，为菜单栏（即顶层菜单）或各子菜单项输入代码，它包括以下几个选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称：显示菜单的名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：其编辑框用于输入或显示菜单的过程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按钮：用鼠标单击此按钮将打开一个文本编辑窗口，其功能与过程框基本相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8305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规划原则、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是菜单栏、菜单标题、下拉菜单、菜单项和子菜单的组合体。规划和设计菜单系统主要是确定需要哪些菜单、出现在界面的何处以及哪些菜单要有子菜单等。创建菜单系统的大量工作是在“菜单设计器”中完成的，在那里可创建实际的菜单标题、子菜单和菜单选项等菜单内容。在创建菜单之前，我们需要先进行菜单系统的规划和设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创建菜单系统需以下步骤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划与设计系统：确定需要哪些菜单、出现在界面的何处以及哪几个菜单要有子菜单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菜单和子菜单：使用菜单设计器可以定义菜单标题、菜单项和子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实际要求为菜单系统指定任务：指定菜单所要执行的任务，如显示表单或对话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菜单程序：运行生成的程序，以测试菜单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144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新建一个菜单，可以通过定制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或者开发自己的菜单系统来创建。如果要从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开始创建菜单，则可以使用“快速菜单”功能。具体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项，然后用鼠标单击“新建”按钮，在随后出现的“新建菜单”窗口中用鼠标单击“菜单”按钮，随后将会出现“菜单设计器”窗口，同时在系统菜单中将会出现“菜单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系统菜单的“菜单”选项中，选择“快速菜单”命令，在“菜单设计器”中将会包含关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菜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设计器”中可通过添加或更改菜单项定制菜单系统，同时，如果用鼠标拖动最前面的移动钮，还可以改变菜单栏上各菜单的位置。此外，如果需要创建“帮助”菜单，最好将它安排在菜单栏的最后，这样用户能够很快找到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144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控件或对象上单击右键时，将会显示快捷菜单，以便快速展示当前对象可用的所有功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创建快捷菜单的功能，并可将这些菜单附加在控件中。例如，可创建包含“剪切”、“复制”和“粘贴”命令的快捷菜单，当用户在表格控件所包含的数据上单击右键时，将出现此快捷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快捷菜单的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选项，并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随后出现的“新建菜单”窗口中用鼠标单击“快捷菜单”按钮，将会出现“快捷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入“快捷菜单设计器”后，添加菜单项的过程与创建菜单完全相同。即在“菜单名称”栏中，选择相应的菜单标题或菜单项；单击“选项”栏中的按钮，出现“提示选项”对话框，在“键标签”框中，按下一组合键，可创建快捷键。快捷键一般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与另一个键相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7:45:23Z</dcterms:created>
  <dc:creator>pcn</dc:creator>
  <dc:description/>
  <dc:language>en-US</dc:language>
  <cp:lastModifiedBy>user</cp:lastModifiedBy>
  <dcterms:modified xsi:type="dcterms:W3CDTF">2002-01-07T07:35:49Z</dcterms:modified>
  <cp:revision>3</cp:revision>
  <dc:subject/>
  <dc:title>没有幻灯片标题</dc:title>
</cp:coreProperties>
</file>