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596C-D16D-4FBD-B282-3DC345DB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3EF7-79D3-4481-9415-A70B134F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8CC-FEAB-4BCD-9851-84C02BA4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E554-F7C6-4757-9927-FB22D8EE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637-076C-41DD-9A4B-12DCBF5D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1CEF-C0E0-4137-9263-0B7B926C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742-8E27-4133-A4F5-732DB1BF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3C4-1199-4EAB-97BD-6E9DC49D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F3EC-33CF-4F26-9CEB-85CA215A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441-CE4A-4F8F-8F05-DF92FEFF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F16B-584C-4E41-B998-4D9D0A78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922-4B68-411B-8BE5-4A9A88CF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ED4D-1318-437C-ADEB-E5306DA38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0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制菜单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91440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新建一个菜单，可以通过定制已有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系统或者开发自己的菜单系统来创建。如果要从已有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系统开始创建菜单，则可以使用“快速菜单”功能。具体操作步骤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“项目管理器”中的“其他”选项卡，选定“菜单”项，然后用鼠标单击“新建”按钮，在随后出现的“新建菜单”窗口中用鼠标单击“菜单”按钮，随后将会出现“菜单设计器”窗口，同时在系统菜单中将会出现“菜单”选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系统菜单的“菜单”选项中，选择“快速菜单”命令，在“菜单设计器”中将会包含关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菜单的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菜单设计器”中可通过添加或更改菜单项定制菜单系统，同时，如果用鼠标拖动最前面的移动钮，还可以改变菜单栏上各菜单的位置。此外，如果需要创建“帮助”菜单，最好将它安排在菜单栏的最后，这样用户能够很快找到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8:38:44Z</dcterms:created>
  <dc:creator>pcn</dc:creator>
  <dc:description/>
  <dc:language>en-US</dc:language>
  <cp:lastModifiedBy>pcn</cp:lastModifiedBy>
  <dcterms:modified xsi:type="dcterms:W3CDTF">2002-01-06T21:03:06Z</dcterms:modified>
  <cp:revision>2</cp:revision>
  <dc:subject/>
  <dc:title>没有幻灯片标题</dc:title>
</cp:coreProperties>
</file>