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F746-0512-4B4A-B5E8-0CB35A19E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68CB-3DEB-40FE-BAE6-E0874C5E6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840C-7FF6-43D8-AB70-214A13346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9FC4-24DF-4757-B074-2B54ED426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16FC-DDFA-4F77-AF9A-7AA934347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394A-F70B-4B6F-96EC-C75473887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D7CC-853D-4BAA-912B-626D3AD3A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3305-3DC0-40D5-861D-E3E1C8232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AEB4-3C3E-45F5-886D-D87A011FA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DD82-C840-4353-BFB7-13373D48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D696-B814-4B1A-8D6E-5A79614B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DA6A-FF95-4441-ABBD-9D7740A1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43BE8-0DB1-4D82-B983-55E714A2A1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330120"/>
            <a:ext cx="7848360" cy="36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spcBef>
                <a:spcPts val="825"/>
              </a:spcBef>
              <a:spcAft>
                <a:spcPts val="8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10.2.4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子菜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于每个菜单项，都可以创建包含其他菜单项的子菜单。如果需要在菜单项中添加子菜单，可进行如下操作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菜单设计器的“菜单名称”栏中，选择要添加子菜单的菜单项；在“结果”框中，选择“子菜单”，此时“创建”按钮会出现在列表的右侧。如果已经有了子菜单，则此处出现的是“编辑”按钮，用鼠标单击“创建”或“编辑”按钮。然后在“菜单名称”栏中，键入新建的各子菜单项的名称。在子菜单建立完成后，如果还需要建立其他的菜单项，在“菜单级”的下拉列表中选择“菜单栏”选项，则可以继续建立其他的菜单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10.2.5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以编程方式添加菜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我们既可以使用“菜单设计器”创建菜单和菜单项，也可以使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isual FoxPr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命令来创建。例如，创建菜单可使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EFINE PAD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，创建子菜单可使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EFINE POPUP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，而在子菜单上创建菜单项则可以使用一组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EFINE BAR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6T19:08:15Z</dcterms:created>
  <dc:creator>pcn</dc:creator>
  <dc:description/>
  <dc:language>en-US</dc:language>
  <cp:lastModifiedBy>pcn</cp:lastModifiedBy>
  <dcterms:modified xsi:type="dcterms:W3CDTF">2002-01-06T21:03:26Z</dcterms:modified>
  <cp:revision>2</cp:revision>
  <dc:subject/>
  <dc:title>没有幻灯片标题</dc:title>
</cp:coreProperties>
</file>