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1E3-520D-4543-99C3-DBFA4EE1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95F-9A01-4BF9-B23A-97594C40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6B1-4210-48A8-9DB2-B3ED6F4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CE3-B33E-44B0-8A6D-9BF6FEC0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47C-8ADE-4939-BF02-CE20580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E54-633D-4011-8CA5-8B2A044D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17C-6BE3-44DF-9E2F-63FE310C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00E-B2E8-435A-A986-4942A3D0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FAB-5D2F-46D6-BDED-DA88AD9F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1F3-7684-481F-A2C3-51B2FC23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D08-F548-48CB-A298-1E3A7C1B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D27-03EB-44ED-9E2E-90362CB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095D-246C-4A85-96E8-FC50A906F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文档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19320"/>
            <a:ext cx="845820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文档菜单是出现在单文档界面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窗口中的菜单。如果要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，必须在设计菜单时指出该菜单用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。除此之外，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的过程与创建普通菜单完全相同。具体操作为：打开“菜单设计器”，从“显示”菜单中选择“常规选项”，并选择“顶层表单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创建好后，可以在菜单上设置菜单项。每个菜单项都表示了一个我们希望用户执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或过程，菜单项也可以包含子菜单，用以提供其他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0.2.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组各菜单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增强可读性，可使用分隔线将内容相关的菜单项分隔成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名称”栏中，键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便可以创建一条分隔线。拖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符左侧的按钮，可以将分隔线移动到正确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50:24Z</dcterms:created>
  <dc:creator>pcn</dc:creator>
  <dc:description/>
  <dc:language>en-US</dc:language>
  <cp:lastModifiedBy>pcn</cp:lastModifiedBy>
  <dcterms:modified xsi:type="dcterms:W3CDTF">2002-01-06T21:03:47Z</dcterms:modified>
  <cp:revision>2</cp:revision>
  <dc:subject/>
  <dc:title>没有幻灯片标题</dc:title>
</cp:coreProperties>
</file>