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255-8A6F-4A3F-9C47-3CC3E789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C97-9A2A-48E0-A1FA-1A3365D1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CE1-2C81-47A6-8A38-5211E759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886-83BF-4D6A-B089-AE57E309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969-12F8-4BE8-9BBC-64265591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5C6-C65A-4D3C-9DC2-3A187B5A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E86-F618-4F40-9BB6-165230D9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0DB-FD6D-4AC7-BFDE-5BDCFCDF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421-916C-4A65-9262-287EB58A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4DE-C00A-4023-809A-58D8AACB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74C-BC97-4FE9-AFDF-26349C36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D5F-EA1F-4730-B9E1-23CA27B7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022C-648B-4717-B5B6-F26FE6411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快捷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控件或对象上单击右键时，将会显示快捷菜单，以便快速展示当前对象可用的所有功能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创建快捷菜单的功能，并可将这些菜单附加在控件中。例如，可创建包含“剪切”、“复制”和“粘贴”命令的快捷菜单，当用户在表格控件所包含的数据上单击右键时，将出现此快捷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快捷菜单的具体操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项目管理器”中的“其他”选项卡，选定“菜单”选项，并单击“新建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随后出现的“新建菜单”窗口中用鼠标单击“快捷菜单”按钮，将会出现“快捷菜单设计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进入“快捷菜单设计器”后，添加菜单项的过程与创建菜单完全相同。即在“菜单名称”栏中，选择相应的菜单标题或菜单项；单击“选项”栏中的按钮，出现“提示选项”对话框，在“键标签”框中，按下一组合键，可创建快捷键。快捷键一般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r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与另一个键相组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42:25Z</dcterms:created>
  <dc:creator>pcn</dc:creator>
  <dc:description/>
  <dc:language>en-US</dc:language>
  <cp:lastModifiedBy>pcn</cp:lastModifiedBy>
  <dcterms:modified xsi:type="dcterms:W3CDTF">2002-01-06T21:04:06Z</dcterms:modified>
  <cp:revision>2</cp:revision>
  <dc:subject/>
  <dc:title>没有幻灯片标题</dc:title>
</cp:coreProperties>
</file>