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1DC-D1E2-4ADD-A4A9-863ED651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3BB-D3CF-47AE-9AD0-B4DC9EE8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ADE-8307-459A-A127-B81C2283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41A-CF97-4C18-9EC0-95777F66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48C-2CC0-4078-8A30-32546C24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A0C-D128-4F9A-AEF9-06E6BD80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DAA-E995-4E36-999A-6E1E094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046-487A-4F6D-BE46-90523EBE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FD9-2CE2-41C2-9A1D-E009E2FF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90F-BE9D-484F-924F-67C833F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291-5A35-41ED-9A54-31CBB120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AA7-CAC4-4427-BDDF-22DDE234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0245-D6FA-40D0-A2AB-86965449D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0592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系统规划原则、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是菜单栏、菜单标题、下拉菜单、菜单项和子菜单的组合体。规划和设计菜单系统主要是确定需要哪些菜单、出现在界面的何处以及哪些菜单要有子菜单等。创建菜单系统的大量工作是在“菜单设计器”中完成的，在那里可创建实际的菜单标题、子菜单和菜单选项等菜单内容。在创建菜单之前，我们需要先进行菜单系统的规划和设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创建菜单系统需以下步骤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划与设计系统：确定需要哪些菜单、出现在界面的何处以及哪几个菜单要有子菜单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菜单和子菜单：使用菜单设计器可以定义菜单标题、菜单项和子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实际要求为菜单系统指定任务：指定菜单所要执行的任务，如显示表单或对话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菜单程序：运行生成的程序，以测试菜单系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34:26Z</dcterms:created>
  <dc:creator>pcn</dc:creator>
  <dc:description/>
  <dc:language>en-US</dc:language>
  <cp:lastModifiedBy>pcn</cp:lastModifiedBy>
  <dcterms:modified xsi:type="dcterms:W3CDTF">2002-01-06T21:04:27Z</dcterms:modified>
  <cp:revision>2</cp:revision>
  <dc:subject/>
  <dc:title>没有幻灯片标题</dc:title>
</cp:coreProperties>
</file>