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520-2A54-4B04-8127-2F4233F2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8ED-47D6-4244-B869-43F4A2FD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A2C-CE11-470A-94D2-BCB8AD6F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811-8B15-4E5E-9476-590E6CDB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375-715D-4032-B18A-527D881C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D2E-FD73-422D-AB25-8BAA528A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808-A255-45F1-9A18-07D5029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E9D-8554-4658-86C9-90D45132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2DE-1D4F-46CF-83E1-B25102F9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A4B-EB9E-4BAC-A219-69D77025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9DA-F28E-4220-9029-0CE9390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56A-509F-4B25-911F-EB9D856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5456-3C7A-4538-B168-19014DDD5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533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3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”、“显示”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295280"/>
            <a:ext cx="815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菜单设计器时，系统菜单将添加一个“菜单”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快速菜单：用于快速设计菜单。打开“菜单设计器”，尚未输入任何其它内容时该选项是活动的。选择它，可将系统菜单的内容提取到当前菜单设计器中显示，亦可对该菜单进行修改调整，形成一个新的菜单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菜单项：在当前菜单项下插入一个菜单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栏：显示插入系统菜单条对话框，它允许向菜单设计器窗口中添加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菜单项：删除当前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：激活生成对话框，根据当前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文件，生成对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P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程序代码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览：菜单预览，演示设计的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使用菜单设计器时，“显示”菜单（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）中将添加如下菜单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12:59Z</dcterms:created>
  <dc:creator>pcn</dc:creator>
  <dc:description/>
  <dc:language>en-US</dc:language>
  <cp:lastModifiedBy>pcn</cp:lastModifiedBy>
  <dcterms:modified xsi:type="dcterms:W3CDTF">2002-01-06T21:04:50Z</dcterms:modified>
  <cp:revision>2</cp:revision>
  <dc:subject/>
  <dc:title>没有幻灯片标题</dc:title>
</cp:coreProperties>
</file>