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E4A-22B6-431F-AD39-8DAF856B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291-3140-4471-A3D3-FBF37E9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654-4165-4693-9587-EBE15D0C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B59-9F5A-4EE6-A667-E0F86BBA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BAC-DEFE-4C88-9A4D-DB068C8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124-D075-4D97-95E5-7E2FA15B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F45-0110-4FBD-BFA9-36B4B973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AE9-C1C5-4CA7-AE0E-0EB95553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6F3-89F7-4BC1-BCF0-2DEE1A33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03E-E9CD-4B93-AB63-7D00FF5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8AC-D2D2-4BB5-BF73-D98F2B1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26B-9F45-4FFB-B388-C3FD1320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4C5-9FDE-451F-A73F-5759F912E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代码：包括两个复选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：选中这一项将打开一编辑窗口，从中可为菜单系统加入一段初始化代码。要进入打开的设置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理：选中这一项将打开一个编辑窗口，从中可为菜单系统加入一段结束代码。要进入打开的结束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层表单：如果选定该复选框，将允许该菜单在顶层表单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中使用；如果未选定，只允许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框中使用该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“单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选择“显示”菜单中的“菜单选项”时将显示“菜单选项”对话框，为菜单栏（即顶层菜单）或各子菜单项输入代码，它包括以下几个选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：显示菜单的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：其编辑框用于输入或显示菜单的过程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按钮：用鼠标单击此按钮将打开一个文本编辑窗口，其功能与过程框基本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25:57Z</dcterms:created>
  <dc:creator>pcn</dc:creator>
  <dc:description/>
  <dc:language>en-US</dc:language>
  <cp:lastModifiedBy>pcn</cp:lastModifiedBy>
  <dcterms:modified xsi:type="dcterms:W3CDTF">2002-01-06T21:05:10Z</dcterms:modified>
  <cp:revision>2</cp:revision>
  <dc:subject/>
  <dc:title>没有幻灯片标题</dc:title>
</cp:coreProperties>
</file>