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03D-84BC-44AA-8A68-88D60618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DF2-E49C-413B-B932-896B5A85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2A6E-B06A-4643-98F0-432742D1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7AB-9489-4CFD-A213-170CFA0A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25E-C06E-48FC-AAC1-0B931E0D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7AB-EF8A-455B-8706-970810D6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D5D-17F6-4368-B898-DF843070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6F1-ACAA-4088-882D-6A4590B7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C2D-A7A6-4B8C-9F17-4E1256AD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1E0-E826-45C8-AB63-7AFD7E9C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49F-2E13-42E3-A889-AD16F96B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CEE-FA78-4F3A-99C7-B2410336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3C40-7400-40E4-9257-FA4E1BB0F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规选项”对话框：将激活一个常规选项对话框，它允许为整个菜单系统指定代码。该对话框提供如下选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程编辑”框：在这里输入菜单过程代码。如果代码过多超出编辑域，编辑域右侧的滚动条将被激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”按钮：按下“编辑”按钮将打开一个编辑窗口来输入菜单过程的代码。要进入编辑窗口编写程序，按“确定”按钮关掉对话框就可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置区：包含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按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替换：将现有的菜单系统替换成新的菜单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追加：将定义的菜单附加在现有菜单的后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…之后：将定义的菜单插入到指定菜单的后面。选中这一选项将出现一弹出列表，其中列出了当前菜单系统的菜单名，可从中选择一个菜单名，已定义的菜单将出现在该菜单的后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…之前：将用户定义的菜单插入到指定菜单前。选中这一选项将出现一弹出列表，列出了当前菜单系统的菜单名。可从中选择一个菜单名，用户定义菜单出现在该菜单的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05:42Z</dcterms:created>
  <dc:creator>pcn</dc:creator>
  <dc:description/>
  <dc:language>en-US</dc:language>
  <cp:lastModifiedBy>pcn</cp:lastModifiedBy>
  <dcterms:modified xsi:type="dcterms:W3CDTF">2002-01-06T21:05:28Z</dcterms:modified>
  <cp:revision>2</cp:revision>
  <dc:subject/>
  <dc:title>没有幻灯片标题</dc:title>
</cp:coreProperties>
</file>