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F70-D490-45AC-B71D-1C24FF83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501E-DC6A-4A47-9FDF-C0221001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8798-454F-4E1B-A972-3AD1E29D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A78-4AED-4580-824A-CB514C50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FE1B-EFB1-4892-B12B-E79247B8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7DE1-282B-45A6-9776-F3228193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DFC-4441-4A20-B7CA-0C7C854E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293-E1F7-4D7F-A991-C5854D7E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1C3-9D13-4280-8BCC-564E47F1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FAF-A2FF-4F0D-BE99-B04EC4A6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3EB-2796-4891-A3B3-BF9214F5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F60-013F-46E2-A116-CA420EA8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A0F2-A3B3-4673-BEFA-C4A6D8B11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49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1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菜单设计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92376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菜单设计得很好，那么用户只要根据菜单栏和与之配套的工具栏的组织形式和内容，就可以很好地理解应用程序要点及其所能提供的主要功能，为恰当地设计菜单栏和工具栏，实现应用程序的主要功能实现。提供了“菜单设计器”，用来创建菜单。打开菜单设计器的方法有以下几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常用工具栏上单击“新建”按钮，在“新建”“文件类型”列表中选择“菜单”单选项，然后单击“新建文件”按钮，出现“新建菜单”窗口，用鼠标单击其中的“菜单”按钮，出现“菜单设计器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“文件”菜单中，选择“新建”菜单项，出现“新建”窗口，以后操作同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项目管理器，即在项目管理器中选择“菜单”，然后单击“新建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使用命令，其格式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MEM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菜单文件，扩展名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MN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允许缺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8:05:53Z</dcterms:created>
  <dc:creator>pcn</dc:creator>
  <dc:description/>
  <dc:language>en-US</dc:language>
  <cp:lastModifiedBy>pcn</cp:lastModifiedBy>
  <dcterms:modified xsi:type="dcterms:W3CDTF">2002-01-06T21:05:48Z</dcterms:modified>
  <cp:revision>2</cp:revision>
  <dc:subject/>
  <dc:title>没有幻灯片标题</dc:title>
</cp:coreProperties>
</file>