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149-7370-4A2F-8E84-76093ED0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15EE-9BF2-4A67-AE47-FA1C1E38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21A-6E3E-4E46-98BF-413BDA8B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0CC-D80D-447D-BB21-24BDB0B5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47D-5A6B-43AE-A8C4-10361481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1DA-51BF-469B-B258-4E3816E3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DC2-CBB9-4149-AD2F-CD74293B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900-2C01-4D01-8D6E-2828399C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D47-06C1-4336-8B3E-6090835A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F44-04B3-4518-86E8-CC6DEB28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E99-0E02-4572-B415-FA4A2ABC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5F5-9DB5-4293-AFE4-72F816B4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5B0B-5455-4DB8-8D6B-062A9B951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33520"/>
            <a:ext cx="815328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.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菜单系统结构及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1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菜单系统结构及其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户在使用软件查找信息之前，首先看到的便是菜单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菜单系统实际上是一个树型结构。菜单栏是指菜单最上面的一层，即几乎所有应用程序都有并始终都可看到的菜单名列表栏；菜单栏中的每个菜单名代表了一个主菜单选项，主菜单项的名称即菜单标题。例如：“文件”是一个主菜单项的标题，点击主菜单项将它展开，显示它所具有的子菜单选项。每一个主菜单项可以直接对应于一条命令或过程；一般每个主菜单对应有一个下拉菜单，下拉菜单中包含了一组菜单项；如果是对应于一个子菜单，则子菜单里又可包含一组相关的菜单项，它们又分别对应于一个子菜单或直接对应于一条命令，从而形成一个不断分支的树型结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7:57:34Z</dcterms:created>
  <dc:creator>pcn</dc:creator>
  <dc:description/>
  <dc:language>en-US</dc:language>
  <cp:lastModifiedBy>pcn</cp:lastModifiedBy>
  <dcterms:modified xsi:type="dcterms:W3CDTF">2002-01-06T21:06:11Z</dcterms:modified>
  <cp:revision>2</cp:revision>
  <dc:subject/>
  <dc:title>没有幻灯片标题</dc:title>
</cp:coreProperties>
</file>