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AAB-7BC5-4F09-BACF-05EEB8AD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5CB-1543-4D30-8044-C8339DB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2AC-2241-4AAC-BA97-6CF3FEE1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DA9-1ED9-4CF8-B227-2AF03222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0B0-E632-4E86-9FF2-4ED912D5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A2C-739B-45A2-99FF-8E21EBC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A9D-CC8D-4681-A662-5ED800E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278-5463-4623-A58C-1C5438AE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1E7-F568-478B-A758-E4D5195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FFD-5E9B-4125-ACED-F8E7A3E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AF9-32A9-4733-9C7C-A963FD2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E0F-FDFB-403F-BC7F-57C138A8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FDB1-6C4C-422C-983F-0E491E0A8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9680"/>
            <a:ext cx="792468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基础上添加成绩计算。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”菜单选择“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结”菜单项，选择“总结带区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总结带区”设置标签控件，输入“总成绩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变量：在“报表”菜单中选择“变量”菜单项，得到“报表变量”对话框。在变量处设计一个变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要存储的值为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”，初始值设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在计算区域中选择“总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单选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“报表控件”中选择“域控件”，单击“总成绩：”，在得到的“报表表达式”对话框中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9.3.5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线条、矩形及圆角矩形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修饰型控件使用线条、矩形、圆角矩形控件。多数情况下是作为报表边界和分隔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9.3.6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图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/O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绑定型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使用图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绑定型控件为报表布局加入图片或通用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7:46:58Z</dcterms:created>
  <dc:creator>pcn</dc:creator>
  <dc:description/>
  <dc:language>en-US</dc:language>
  <cp:lastModifiedBy>pcn</cp:lastModifiedBy>
  <dcterms:modified xsi:type="dcterms:W3CDTF">2002-01-06T20:56:21Z</dcterms:modified>
  <cp:revision>2</cp:revision>
  <dc:subject/>
  <dc:title>没有幻灯片标题</dc:title>
</cp:coreProperties>
</file>