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474-6EF4-46ED-AD4C-0050523B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F16-78E2-4EF4-B382-04177308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F75-4E02-4C7F-8298-982BB6DE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F18-9FE1-4DBA-A00D-E6F6D87D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FFC-E8CF-4904-9542-A65AE43D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538-B1F4-40CE-8810-9F1300C9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127-93B9-4861-913C-3320473A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9FA-9A1A-4A2D-92EA-BFEE271B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799-13AC-4FC4-AE6F-DFFC09AB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889-9FC2-4461-B7B6-571BF677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64E-3C09-4174-B1AF-53C5C7E7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591-B66A-4C1E-B94B-85BDA9E6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C567-E837-42BF-A210-48A3C2719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936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小值：在组、页、列或报表中显示变量的最小值。将组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记录的值放入变量，当更小的值出现时，此变量的值随之更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大值：在组、页、列或报表中显示变量的最大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准误差：返回组、页、列或报表（取决于“重置”框中的选择）中变量的方差的平方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差：衡量组、页、列或报表（取决于“重置”框中的选择）中各个字段值与平均值的偏离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报表设计器”中，用户可以将多个表字段接合在一起作为一个域控件加入到报表布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上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基础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页标头区添加报表输出字段；在细节区放置“学号”、“姓名”、“课程”、“成绩”字段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报表控件”窗口中单击“标签”控件，然后在页标头区单击，接着输入“学号”等文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格式页面上右击，在弹出式菜单中选择“数据环境”，从数据库中添加相应对象到数据环境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报表控件”中单击“域控件”，在“报表表达式”中选择“学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”。“确定”。其余亦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7:30:33Z</dcterms:created>
  <dc:creator>pcn</dc:creator>
  <dc:description/>
  <dc:language>en-US</dc:language>
  <cp:lastModifiedBy>pcn</cp:lastModifiedBy>
  <dcterms:modified xsi:type="dcterms:W3CDTF">2002-01-06T20:57:51Z</dcterms:modified>
  <cp:revision>2</cp:revision>
  <dc:subject/>
  <dc:title>没有幻灯片标题</dc:title>
</cp:coreProperties>
</file>