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940-1022-4279-9EA6-18EACAA9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26D-BD9B-459F-9DAF-51DAB1D3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644-3EB0-4962-A273-5DE642C3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394-24D3-4D4B-9FB3-488A0E5F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821-0411-4C18-9604-72C0271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2C-F9D3-4171-BC2F-72ECC53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EAE-3573-4152-A140-C23EAD4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9B9-23D3-43E9-AB5D-1A2B7FB7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C16-8C0E-4C74-931C-AF8540A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65B-2095-4BC6-A156-4E59A55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6C4-C4F9-4CD8-AFAE-A7643C4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147-4769-4BC2-A7B2-95568E0F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45C7-C20B-4FCC-A1A0-A36589704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设计报表，可以用各种方式在打印页面上显示数据。设计报表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主要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要创建的报表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定报表的数据来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报表布局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修改和定制布局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预览和打印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报表时需打开报表设计器，主要有以下几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菜单中选择“新建”然后选择“报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菜单中选择“打开”命令，在打开对话框中选择“文件类型：”报表”，并在相应的位置选择报表文件名，再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命令窗口输入如下命令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 REPORT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报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该命令用于建立一个新的报表并打开报表设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项目管理器”中，选择“报表”项，单击“新建”按钮，在“新建报表”对话框中单击“新建报表”按钮，屏幕上即出现“报表设计器”窗口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3:31:15Z</dcterms:created>
  <dc:creator>pcn</dc:creator>
  <dc:description/>
  <dc:language>en-US</dc:language>
  <cp:lastModifiedBy>pcn</cp:lastModifiedBy>
  <dcterms:modified xsi:type="dcterms:W3CDTF">2002-01-06T21:00:07Z</dcterms:modified>
  <cp:revision>2</cp:revision>
  <dc:subject/>
  <dc:title>没有幻灯片标题</dc:title>
</cp:coreProperties>
</file>