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FD2E-5345-4E4C-A27F-5DDB18E0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7F12-82A5-4973-82BC-FC5EAAF3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C6C0-B03B-471D-829D-56075C9A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DAB1-4040-4160-AA67-1E258561F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6D98-B27D-4967-BD6D-100D6EB2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98BB-6AB3-43DD-A3EE-DBEDC748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AB1E-3506-49DC-9615-E7A6A164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661B-91B6-44CF-815A-6FB4330F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E623-D6CA-4E6C-B4BA-219B5FC3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313E-FA10-4B08-93D8-1958B37E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ECFD-4E49-45D3-A036-F2A7137B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96DF-0310-4584-AD57-9FACBC4E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0DAD-F053-42C9-AE93-3F05EF537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6094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.1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报表向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6002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报表是处理数据库信息功能中重要的一部分，是各种数据最常用的输出格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报表设计器和报表向导为用户进行报表设计提供了极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便的工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“项目管理器”窗口中，选定“报表”，选择“新建”。也可以从菜单中调用“报表向导”，从“工具”菜单中，选择“向导”命令，然后选定“报表”。选定想创建的报表类型。                           启动报表向导的方法有两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项目管理器中选择“报表”项，再单击“向导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“文件”菜单中选择“新建”，在“新建”对话框中选择“报表”项，然后，单击按钮“向导”。在“向导选取”对话框中，选择“报表向导”项，单击“确定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5T02:04:28Z</dcterms:created>
  <dc:creator>pcn</dc:creator>
  <dc:description/>
  <dc:language>en-US</dc:language>
  <cp:lastModifiedBy>pcn</cp:lastModifiedBy>
  <dcterms:modified xsi:type="dcterms:W3CDTF">2002-01-06T21:00:30Z</dcterms:modified>
  <cp:revision>2</cp:revision>
  <dc:subject/>
  <dc:title>没有幻灯片标题</dc:title>
</cp:coreProperties>
</file>