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EBB-1BF8-4FC2-B4AF-AF7CBE30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3F8-51C2-484C-B095-117B6905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9F0-312B-430C-B702-9AAB4BF3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09D-75DF-422F-AC99-49885D96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37C-7A77-4B58-AADB-9AE42C01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751-5EF5-4296-A423-6F636F82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F58-87E1-4A5D-9A0D-036379FA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15E-D63D-4FDC-9294-52067A93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99D-ADFE-483A-BE8C-6E5C03CF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D62-965D-4822-A4FE-A3E3F3C0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11B-E620-4EE5-A5CA-444F0494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DBB-05E2-41DB-80C3-05E95990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1A72-7B08-4064-9EDC-8C522C15D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457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1.1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单一报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815328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一报表是用一个表创建的报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单一报表向导的操作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选择字段、分组记录、选择报表样式、定义报表布局、排序记录、完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报表向导创建一个反映学生成绩的报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体操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单击“文件”菜单的“新建”菜单项，在打开的“创新建对话框”中选择“报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导”，在向导选取中选定“报表向导”。或者单击主菜单上的“工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导”，选择“报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单击“确定”按钮，打开“报表向导” 对话框（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在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单击数据库与表右侧的按钮，在输出的选项中选择“教学数据库”和一个视图文件“成绩视图”。选定在报表中使用的字段：学号、姓名、班级、课程、成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02:40:53Z</dcterms:created>
  <dc:creator>pcn</dc:creator>
  <dc:description/>
  <dc:language>en-US</dc:language>
  <cp:lastModifiedBy>pcn</cp:lastModifiedBy>
  <dcterms:modified xsi:type="dcterms:W3CDTF">2002-01-06T21:01:15Z</dcterms:modified>
  <cp:revision>2</cp:revision>
  <dc:subject/>
  <dc:title>没有幻灯片标题</dc:title>
</cp:coreProperties>
</file>