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683-4DC8-4200-BFE8-8B57D27E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C7D-789A-47D8-B93A-6630CC0B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5E0-1D86-49C3-A785-F0EC999F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04E-4AF4-46EA-828C-37091B6D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37B-F2E4-4288-A1AE-2247CC55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F53-59E7-45BB-92DB-C42ED431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985-BFF0-4DA6-9B52-11075C8B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267-4896-4615-8325-544018D5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458-2B35-4D6C-AE9C-54F2240C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315-AF86-4D0E-9384-B39A24B4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48B-3D6E-483A-A741-00EDB75C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912-027D-4AD6-BC3F-E3728E4E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485D-14D3-47C9-92F2-48CE15C23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33720" y="457200"/>
          <a:ext cx="477360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457200"/>
                    <a:ext cx="4773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90920" y="28954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9-15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平时成绩报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2004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标题区设置标题为“平时成绩”。在页标头区设置列名称。在细节区设置与页标头区相对应的数据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文件”菜单选择“新建”，打开“报表设计器”报表菜单，进行以下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标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结”菜单项，打开“标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结”对话框，从中选择“标题带区”，然后按“确定”按钮，使标题带区打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鼠标点击“报表控件”工具栏中“标签”控件，再移动到标题区。选定输入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6:05:41Z</dcterms:created>
  <dc:creator>pcn</dc:creator>
  <dc:description/>
  <dc:language>en-US</dc:language>
  <cp:lastModifiedBy>pcn</cp:lastModifiedBy>
  <dcterms:modified xsi:type="dcterms:W3CDTF">2002-01-06T16:33:02Z</dcterms:modified>
  <cp:revision>1</cp:revision>
  <dc:subject/>
  <dc:title>没有幻灯片标题</dc:title>
</cp:coreProperties>
</file>