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80E-D02B-4DCE-9075-2FBC6BCB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E90-3B91-427A-9C64-C985F65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E63-785A-469C-A218-A7DB85FB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8A9-E931-4EF7-88AD-9E3410F5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91E-65F8-424B-B1E6-2B105BB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210-2328-480B-9959-D364E4E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C4E-D3B3-45BE-82FF-B76344B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496-7A1D-4A21-A28E-2AB7C34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A54-E721-442A-94FA-01CE38E2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556-373B-4788-AF6A-EB02897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6DF-707E-43D6-BB9C-75F549D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DF9-BA24-4B98-A0F8-A321128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7750-134D-4D4A-A661-76032482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格式”菜单中“字体”，对标题栏中的字体、字号进行选择，输入报表中使用的标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显示”菜单中点击“数据环境”菜单，打开“数据环境设计器”对话框添加使用的数据库或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点击“域控件”钮后，鼠标移到“细节”区，进行点击；在打开的“报表表达式”对话框中选择该列使用的字段后，进行适当的移动和调整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鼠标点击报表控件工具栏中“标签”控件，再移动到页标头区；适当的选择位，输入与该列字段相对应的文字内容。依次完成此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报表”菜单中的“数据分组”项。选择“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”字段名。在组属性中选择“每页都打印组标头”复选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全部完成后可以进行预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实施过程中应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好数据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搞好与每一列对应的数据源选取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个区应与该区显示的内容融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报表设置添加的计算值，如总分数、等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前先考虑好报表所涉及的内容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过程中搞好页面设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6:33:11Z</dcterms:created>
  <dc:creator>pcn</dc:creator>
  <dc:description/>
  <dc:language>en-US</dc:language>
  <cp:lastModifiedBy>pcn</cp:lastModifiedBy>
  <dcterms:modified xsi:type="dcterms:W3CDTF">2002-01-06T16:37:52Z</dcterms:modified>
  <cp:revision>1</cp:revision>
  <dc:subject/>
  <dc:title>没有幻灯片标题</dc:title>
</cp:coreProperties>
</file>