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0D3-033C-4218-8132-E523D76F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837-67D0-48E9-A73D-70500FA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8AF-EF19-47E7-9538-ED636CA8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FBC-0A00-4946-A7AE-B2E24620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EDF-2F7F-4700-937A-15C8460D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B96-39D9-451A-80E6-730FE8D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970-3A89-46DD-B707-285A8E5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CAD-2700-433C-8925-590F314A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4D0-701A-4388-89FA-8A4C9B30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D5F-6E1C-4B91-AF8B-47562C9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14F-E6C7-436B-8D63-0F7731C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6E1-C92C-40DE-B215-9086ABF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49FD-15FA-4BA7-8D14-85B036DA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对象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so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“数据”选项卡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并从下拉列表框中选择一个索引以设置父表的排序索引。使用同样的步骤设置子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索引。两个临时表应使用同样的索引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对象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Environm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选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itialSelectedAli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然后在下拉列表中选择父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设计器”中，根据关系中父表方的数据向报表中添加数据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字段添加到报表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“课程表”为父表，“分数”为子表，建一个一对多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打开“报表向导”，选择“一对多报表”。单击“确定”按钮进入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数据库中的表“课程表”作为父表。可选用字段：课程、教师、教室号、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子表“分数”中选取字段。这里选定为：学号、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5:15:35Z</dcterms:created>
  <dc:creator>pcn</dc:creator>
  <dc:description/>
  <dc:language>en-US</dc:language>
  <cp:lastModifiedBy>pcn</cp:lastModifiedBy>
  <dcterms:modified xsi:type="dcterms:W3CDTF">2002-01-05T05:21:58Z</dcterms:modified>
  <cp:revision>1</cp:revision>
  <dc:subject/>
  <dc:title>没有幻灯片标题</dc:title>
</cp:coreProperties>
</file>