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4C7A-6F3C-4B98-8188-E20D69261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1AF4-2BD8-405B-A503-24BED0F3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EE01-EBA9-4888-BF3C-4415DDE89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AEA4-25CC-4097-9CDC-7BD418DF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83CE-31DB-49B4-99B4-67BCC6A3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D48F-217C-4C1E-9F1A-1BF048BE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155C-1E40-4655-B90E-5D664578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648D-6BB2-470F-8B7B-5B6BDCC4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F991-3FFD-4966-AB5F-7EF10F5F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25A1-B39B-4EEF-8395-39595A15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CB27-A1E5-4825-BEAF-82E23A59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16EC-5C1C-4E8A-B80A-44196944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92EB-72F9-4C32-9575-9D61827AF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609480"/>
            <a:ext cx="7696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单击“下一步”进入步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对数据进行分组。首先是班级，以便保持同一班同学的整体功能，其次是课程，以保证课程成绩划分以及有关其他同一课程成绩的计算统计之方便。做好这一步骤后即可进入“下一步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步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报表样式选择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F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提供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种输出样式。我们在这里选取了“帐务式”。步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义报表布局”缺省。单击“下一步”进入步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记录排序是信息数据编排顺序的重点，这就是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步“排序记录”，在这一步可以选用“成绩”，也可以选用“学号”。我们选用的是“学号”，采用的是“升序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最后一步“完成”前，可以预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效果良好可以在最后一步选择“保存报表供以后使用”，也可在满意的前提下选择“保存并打印报表”；不然，则“保存后在报表设计器中修改”，单击“完成”，报表设计结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5T02:51:44Z</dcterms:created>
  <dc:creator>pcn</dc:creator>
  <dc:description/>
  <dc:language>en-US</dc:language>
  <cp:lastModifiedBy>pcn</cp:lastModifiedBy>
  <dcterms:modified xsi:type="dcterms:W3CDTF">2002-01-05T02:57:44Z</dcterms:modified>
  <cp:revision>1</cp:revision>
  <dc:subject/>
  <dc:title>没有幻灯片标题</dc:title>
</cp:coreProperties>
</file>