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F29-259C-49BD-A649-C1744212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E10-21D5-40CC-824C-B9AAC8E0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6A9-D572-44E2-B807-FE16CAA3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B21-8203-4C2A-9FFD-21A631BE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074-C6CF-4473-A202-00EB2253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5FB-B1CF-4702-98EB-0C492841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08A-1017-434C-BEDE-DD490F0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F09-64D4-4307-ACAA-D589F27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F84-E61F-4091-B46C-960810FA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524-2361-467B-99C5-42C7A5D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992-DBFC-4763-BBAE-87FB0F3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134-744D-4C45-9E7B-C3A7D5F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2737-47AC-48B5-BCA1-A35D97ECE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14600" y="1828800"/>
          <a:ext cx="38862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38862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286000" y="47242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-2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表单运行效果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9:08:21Z</dcterms:created>
  <dc:creator>pcn</dc:creator>
  <dc:description/>
  <dc:language>en-US</dc:language>
  <cp:lastModifiedBy>pcn</cp:lastModifiedBy>
  <dcterms:modified xsi:type="dcterms:W3CDTF">2002-01-03T09:11:42Z</dcterms:modified>
  <cp:revision>1</cp:revision>
  <dc:subject/>
  <dc:title>没有幻灯片标题</dc:title>
</cp:coreProperties>
</file>