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EDE-F302-4F25-AC88-1CD1C078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CC2-84A3-43F7-8AAB-66F62EDB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245-7996-4559-90A6-5355E620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DB6-0858-4C3B-BEF9-AB87ED05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EAE-099C-4E00-BAD4-3E1CD61E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E9B-4B4E-486A-9E86-FB19859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963-63E1-4EA7-AD78-581B14CE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4DB-9433-4131-B94E-DC17ACE1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802-0AA5-443A-BB21-F442BBC7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BE9-D4EE-4407-A1D4-28948C39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7E0-3C62-4A03-AC18-1A682D83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DC3-825A-42D7-9C8C-A1F55F8E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F082-91E8-4058-96D0-8318654E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696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为命令按钮二设计方法程序代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messagebox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真的要退出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",4+16+0,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窗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a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thi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-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43200" y="2971800"/>
          <a:ext cx="3686040" cy="21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36860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819520" y="5334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-9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-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10:23Z</dcterms:created>
  <dc:creator>pcn</dc:creator>
  <dc:description/>
  <dc:language>en-US</dc:language>
  <cp:lastModifiedBy>pcn</cp:lastModifiedBy>
  <dcterms:modified xsi:type="dcterms:W3CDTF">2002-01-02T21:19:24Z</dcterms:modified>
  <cp:revision>1</cp:revision>
  <dc:subject/>
  <dc:title>没有幻灯片标题</dc:title>
</cp:coreProperties>
</file>