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9081-7DA9-48A2-8E3F-9772B2B52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28E0-60B6-4529-A4FA-74D5D6F5D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95C8-1BB4-4205-8C29-32F64E92C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A79A-C6AD-4968-B520-E52AE1AE0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B1B3-6258-4345-B407-40673A73B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B55B-EAFF-42AC-8A82-DC06CC7CF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7E6C-C8BD-46DF-83EA-FC7BCFF82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7EDC-8344-4E75-932D-49F00A54E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0383-3408-4253-98FC-742E800D5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D45E-2283-4BEA-B03C-1AEA6AC28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4456-4666-46B2-B26D-03B22CE74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F843-E425-4D19-9308-9E33B2961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65926-BF46-43FC-9CB7-EAE1022C5D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13.xml"/><Relationship Id="rId3" Type="http://schemas.openxmlformats.org/officeDocument/2006/relationships/slide" Target="slide10.xml"/><Relationship Id="rId4" Type="http://schemas.openxmlformats.org/officeDocument/2006/relationships/slide" Target="slide17.xml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2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C:/Program%20Files/Microsoft%20Visual%20Studio/Vfp98/VFP6.EXE" TargetMode="External"/><Relationship Id="rId2" Type="http://schemas.openxmlformats.org/officeDocument/2006/relationships/hyperlink" Target="file:///C:/Program%20Files/Microsoft%20Visual%20Studio/Vfp98/VFP6.EXE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C:/Program%20Files/Microsoft%20Visual%20Studio/Vfp98/VFP6.EXE" TargetMode="External"/><Relationship Id="rId2" Type="http://schemas.openxmlformats.org/officeDocument/2006/relationships/hyperlink" Target="file:///C:/Program%20Files/Microsoft%20Visual%20Studio/Vfp98/VFP6.EXE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6.xml"/><Relationship Id="rId3" Type="http://schemas.openxmlformats.org/officeDocument/2006/relationships/slide" Target="slide16.xm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C:/Program%20Files/Microsoft%20Visual%20Studio/Vfp98/VFP6.EXE" TargetMode="External"/><Relationship Id="rId2" Type="http://schemas.openxmlformats.org/officeDocument/2006/relationships/hyperlink" Target="file:///C:/Program%20Files/Microsoft%20Visual%20Studio/Vfp98/VFP6.EXE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C:/Program%20Files/Microsoft%20Visual%20Studio/Vfp98/VFP6.EXE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C:/Program%20Files/Microsoft%20Visual%20Studio/Vfp98/VFP6.EXE" TargetMode="External"/><Relationship Id="rId2" Type="http://schemas.openxmlformats.org/officeDocument/2006/relationships/hyperlink" Target="file:///C:/Program%20Files/Microsoft%20Visual%20Studio/Vfp98/VFP6.EXE" TargetMode="Externa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2.xml"/><Relationship Id="rId4" Type="http://schemas.openxmlformats.org/officeDocument/2006/relationships/slide" Target="slide22.xml"/><Relationship Id="rId5" Type="http://schemas.openxmlformats.org/officeDocument/2006/relationships/slide" Target="slide25.xml"/><Relationship Id="rId6" Type="http://schemas.openxmlformats.org/officeDocument/2006/relationships/slide" Target="slide29.xml"/><Relationship Id="rId7" Type="http://schemas.openxmlformats.org/officeDocument/2006/relationships/slide" Target="slide27.xml"/><Relationship Id="rId8" Type="http://schemas.openxmlformats.org/officeDocument/2006/relationships/slide" Target="slide31.xml"/><Relationship Id="rId9" Type="http://schemas.openxmlformats.org/officeDocument/2006/relationships/slide" Target="slide32.xml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hyperlink" Target="file:///C:/Program%20Files/Microsoft%20Visual%20Studio/Vfp98/VFP6.EXE" TargetMode="Externa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C:/Program%20Files/Microsoft%20Visual%20Studio/Vfp98/VFP6.EXE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C:/Program%20Files/Microsoft%20Visual%20Studio/Vfp98/VFP6.EXE" TargetMode="Externa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C:/Program%20Files/Microsoft%20Visual%20Studio/Vfp98/VFP6.EXE" TargetMode="Externa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C:/Program%20Files/Microsoft%20Visual%20Studio/Vfp98/VFP6.EXE" TargetMode="External"/><Relationship Id="rId2" Type="http://schemas.openxmlformats.org/officeDocument/2006/relationships/hyperlink" Target="file:///C:/Program%20Files/Microsoft%20Visual%20Studio/Vfp98/VFP6.EXE" TargetMode="Externa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C:/Program%20Files/Microsoft%20Visual%20Studio/Vfp98/VFP6.EXE" TargetMode="Externa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C:/Program%20Files/Microsoft%20Visual%20Studio/Vfp98/VFP6.EXE" TargetMode="Externa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C:/Program%20Files/Microsoft%20Visual%20Studio/Vfp98/VFP6.EXE" TargetMode="Externa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C:/Program%20Files/Microsoft%20Visual%20Studio/Vfp98/VFP6.EXE" TargetMode="External"/><Relationship Id="rId2" Type="http://schemas.openxmlformats.org/officeDocument/2006/relationships/hyperlink" Target="file:///C:/Program%20Files/Microsoft%20Visual%20Studio/Vfp98/VFP6.EXE" TargetMode="Externa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file:///C:/Program%20Files/Microsoft%20Visual%20Studio/Vfp98/VFP6.EXE" TargetMode="External"/><Relationship Id="rId2" Type="http://schemas.openxmlformats.org/officeDocument/2006/relationships/slide" Target="slide3.xml"/><Relationship Id="rId3" Type="http://schemas.openxmlformats.org/officeDocument/2006/relationships/hyperlink" Target="file:///C:/Program%20Files/Microsoft%20Visual%20Studio/Vfp98/VFP6.EXE" TargetMode="External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file:///C:/Program%20Files/Microsoft%20Visual%20Studio/Vfp98/VFP6.EXE" TargetMode="Externa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file:///C:/Program%20Files/Microsoft%20Visual%20Studio/Vfp98/VFP6.EXE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C:/Program%20Files/Microsoft%20Visual%20Studio/Vfp98/VFP6.EXE" TargetMode="External"/><Relationship Id="rId2" Type="http://schemas.openxmlformats.org/officeDocument/2006/relationships/hyperlink" Target="file:///C:/Program%20Files/Microsoft%20Visual%20Studio/Vfp98/VFP6.EXE" TargetMode="External"/><Relationship Id="rId3" Type="http://schemas.openxmlformats.org/officeDocument/2006/relationships/hyperlink" Target="file:///C:/Program%20Files/Microsoft%20Visual%20Studio/Vfp98/VFP6.EXE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C:/Program%20Files/Microsoft%20Visual%20Studio/Vfp98/VFP6.EXE" TargetMode="External"/><Relationship Id="rId2" Type="http://schemas.openxmlformats.org/officeDocument/2006/relationships/hyperlink" Target="file:///C:/Program%20Files/Microsoft%20Visual%20Studio/Vfp98/VFP6.EXE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609480"/>
            <a:ext cx="883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第</a:t>
            </a: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章 数据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" action="ppaction://hlinkshowjump?jump=nextslide"/>
          </p:cNvPr>
          <p:cNvSpPr/>
          <p:nvPr/>
        </p:nvSpPr>
        <p:spPr>
          <a:xfrm>
            <a:off x="1828800" y="1761480"/>
            <a:ext cx="5410080" cy="520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.1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设计数据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1" action="ppaction://hlinksldjump"/>
          </p:cNvPr>
          <p:cNvSpPr/>
          <p:nvPr/>
        </p:nvSpPr>
        <p:spPr>
          <a:xfrm>
            <a:off x="1828800" y="2559960"/>
            <a:ext cx="5410080" cy="520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.2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数据库的创建及基本操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2" action="ppaction://hlinksldjump"/>
          </p:cNvPr>
          <p:cNvSpPr/>
          <p:nvPr/>
        </p:nvSpPr>
        <p:spPr>
          <a:xfrm>
            <a:off x="1828800" y="4156920"/>
            <a:ext cx="5410080" cy="520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.4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查看和修改数据库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3" action="ppaction://hlinksldjump"/>
          </p:cNvPr>
          <p:cNvSpPr/>
          <p:nvPr/>
        </p:nvSpPr>
        <p:spPr>
          <a:xfrm>
            <a:off x="1828800" y="3358440"/>
            <a:ext cx="5410080" cy="520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.3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数据库中添加和移去数据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4" action="ppaction://hlinksldjump"/>
          </p:cNvPr>
          <p:cNvSpPr/>
          <p:nvPr/>
        </p:nvSpPr>
        <p:spPr>
          <a:xfrm>
            <a:off x="1828800" y="4955400"/>
            <a:ext cx="5410080" cy="520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.5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数据字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" action="ppaction://hlinkshowjump?jump=endshow"/>
          </p:cNvPr>
          <p:cNvSpPr/>
          <p:nvPr/>
        </p:nvSpPr>
        <p:spPr>
          <a:xfrm>
            <a:off x="1828800" y="5753160"/>
            <a:ext cx="541008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退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62120" y="83808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.3 </a:t>
            </a:r>
            <a:r>
              <a:rPr b="1" i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在</a:t>
            </a:r>
            <a:r>
              <a:rPr b="1" i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数据库中添加和移去数据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rId1" action="ppaction://hlinksldjump"/>
          </p:cNvPr>
          <p:cNvSpPr/>
          <p:nvPr/>
        </p:nvSpPr>
        <p:spPr>
          <a:xfrm>
            <a:off x="1752480" y="3652920"/>
            <a:ext cx="556272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.3.3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数据库中移去数据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" action="ppaction://hlinkshowjump?jump=endshow"/>
          </p:cNvPr>
          <p:cNvSpPr/>
          <p:nvPr/>
        </p:nvSpPr>
        <p:spPr>
          <a:xfrm>
            <a:off x="1752480" y="5400720"/>
            <a:ext cx="556272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退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" action="ppaction://hlinkshowjump?jump=nextslide"/>
          </p:cNvPr>
          <p:cNvSpPr/>
          <p:nvPr/>
        </p:nvSpPr>
        <p:spPr>
          <a:xfrm>
            <a:off x="1752480" y="2778120"/>
            <a:ext cx="556272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.3.2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向数据库中添加数据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" action="ppaction://hlinkshowjump?jump=nextslide"/>
          </p:cNvPr>
          <p:cNvSpPr/>
          <p:nvPr/>
        </p:nvSpPr>
        <p:spPr>
          <a:xfrm>
            <a:off x="1752480" y="1905120"/>
            <a:ext cx="556272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.3.1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数据库中建立新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rId2" action="ppaction://hlinksldjump"/>
          </p:cNvPr>
          <p:cNvSpPr/>
          <p:nvPr/>
        </p:nvSpPr>
        <p:spPr>
          <a:xfrm>
            <a:off x="1752480" y="4525920"/>
            <a:ext cx="556272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.3.4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访问其他数据库中的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>
            <a:hlinkClick r:id="rId1"/>
          </p:cNvPr>
          <p:cNvSpPr/>
          <p:nvPr/>
        </p:nvSpPr>
        <p:spPr>
          <a:xfrm>
            <a:off x="2209680" y="609480"/>
            <a:ext cx="464832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.3.1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在数据库中建立新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1143000"/>
            <a:ext cx="8153280" cy="12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当数据库处于打开状态时，可以使用建立自由表的方法在数据库中建立新表，所建立的新表将自动添加到打开的数据库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数据库设计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rId2"/>
          </p:cNvPr>
          <p:cNvSpPr/>
          <p:nvPr/>
        </p:nvSpPr>
        <p:spPr>
          <a:xfrm>
            <a:off x="1981080" y="2757600"/>
            <a:ext cx="495324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.3.2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向数据库中添加数据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4741920"/>
            <a:ext cx="777240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命令方式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DD TABLE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据表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示例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PEN DATABAS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教学管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DD TABL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生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数据库设计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3429000"/>
            <a:ext cx="7848720" cy="126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据库表：与数据库相关联的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自由表：与数据库无关联的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据库表与自由表之间可以相互转化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>
            <a:hlinkClick r:id="rId1"/>
          </p:cNvPr>
          <p:cNvSpPr/>
          <p:nvPr/>
        </p:nvSpPr>
        <p:spPr>
          <a:xfrm>
            <a:off x="2209680" y="609480"/>
            <a:ext cx="487692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.3.3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从数据库中移去数据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219320"/>
            <a:ext cx="792504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命令方式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MOVE TABLE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据表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 [DELET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ROP TABLE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据表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 [NORECYCL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示例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PEN DATABAS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教学管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MOVE TABL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生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PEN DATABAS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教学管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ROP TABL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生表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ORE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数据库设计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rId2"/>
          </p:cNvPr>
          <p:cNvSpPr/>
          <p:nvPr/>
        </p:nvSpPr>
        <p:spPr>
          <a:xfrm>
            <a:off x="1752480" y="4343400"/>
            <a:ext cx="556272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.3.4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访问其它数据库中的数据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5014800"/>
            <a:ext cx="81532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使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S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和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!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符号可以访问一个不在当前数据库中的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示例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教学管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!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生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80880" y="83808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.4 </a:t>
            </a:r>
            <a:r>
              <a:rPr b="1" i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查看和修改数据库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rId1" action="ppaction://hlinksldjump"/>
          </p:cNvPr>
          <p:cNvSpPr/>
          <p:nvPr/>
        </p:nvSpPr>
        <p:spPr>
          <a:xfrm>
            <a:off x="1523880" y="3301920"/>
            <a:ext cx="556272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.4.3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扩展数据库文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" action="ppaction://hlinkshowjump?jump=endshow"/>
          </p:cNvPr>
          <p:cNvSpPr/>
          <p:nvPr/>
        </p:nvSpPr>
        <p:spPr>
          <a:xfrm>
            <a:off x="1523880" y="5400720"/>
            <a:ext cx="556272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退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" action="ppaction://hlinkshowjump?jump=nextslide"/>
          </p:cNvPr>
          <p:cNvSpPr/>
          <p:nvPr/>
        </p:nvSpPr>
        <p:spPr>
          <a:xfrm>
            <a:off x="1523880" y="2603520"/>
            <a:ext cx="556272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.4.2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浏览数据库文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" action="ppaction://hlinkshowjump?jump=nextslide"/>
          </p:cNvPr>
          <p:cNvSpPr/>
          <p:nvPr/>
        </p:nvSpPr>
        <p:spPr>
          <a:xfrm>
            <a:off x="1523880" y="1905120"/>
            <a:ext cx="556272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.4.1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查看数据库分层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rId2" action="ppaction://hlinksldjump"/>
          </p:cNvPr>
          <p:cNvSpPr/>
          <p:nvPr/>
        </p:nvSpPr>
        <p:spPr>
          <a:xfrm>
            <a:off x="1523880" y="4002120"/>
            <a:ext cx="556272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.4.4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检查数据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rId3" action="ppaction://hlinksldjump"/>
          </p:cNvPr>
          <p:cNvSpPr/>
          <p:nvPr/>
        </p:nvSpPr>
        <p:spPr>
          <a:xfrm>
            <a:off x="1523880" y="4700520"/>
            <a:ext cx="556272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.4.5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更新表和数据库的链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>
            <a:hlinkClick r:id="rId1"/>
          </p:cNvPr>
          <p:cNvSpPr/>
          <p:nvPr/>
        </p:nvSpPr>
        <p:spPr>
          <a:xfrm>
            <a:off x="1752480" y="533520"/>
            <a:ext cx="556272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.4.1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查看数据库的分层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1066680"/>
            <a:ext cx="807732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命令方式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DIFY DATABASE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据库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示例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DIFY DATABAS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教学管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菜单方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rId2"/>
          </p:cNvPr>
          <p:cNvSpPr/>
          <p:nvPr/>
        </p:nvSpPr>
        <p:spPr>
          <a:xfrm>
            <a:off x="1752480" y="2300400"/>
            <a:ext cx="556272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.4.2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浏览数据库文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2895480"/>
            <a:ext cx="8305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数据库文件为与数据库关联的每个表、视图、索引、标识、永久关系以及连接保存了一个记录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保存了每个具有附加属性的表字段或视图字段的记录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还包含一个单独的记录，保存数据库的所有存储过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如果浏览数据库文件本身的内容，可以使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S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打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DB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文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示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LOSE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教学管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DBC EXCLU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ROW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>
            <a:hlinkClick r:id="rId1"/>
          </p:cNvPr>
          <p:cNvSpPr/>
          <p:nvPr/>
        </p:nvSpPr>
        <p:spPr>
          <a:xfrm>
            <a:off x="1752480" y="533520"/>
            <a:ext cx="556272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.4.3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扩展数据库文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1219320"/>
            <a:ext cx="8458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每个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DB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文件都包含一个备注字段（命名为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se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，可用来保存用户自己的有关数据库中每个记录的信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也可以扩展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DB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文件，添加字段，但字段必须加在库结构的末尾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要修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DB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文件的结构，必须以独占方式访问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DB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文件中添加字段，使用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DIFY STRUCTUR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向数据库文件中添加一个新字段并对其命名时，最好用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打头，指明它是一个用户自定义字段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不要更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DB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文件中任何已存在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isual FoxPr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定义的字段，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DB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文件所做的任何改动都可能影响到数据库的完整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示例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教学管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DBC EXCLU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DIFY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>
            <a:hlinkClick r:id="rId1"/>
          </p:cNvPr>
          <p:cNvSpPr/>
          <p:nvPr/>
        </p:nvSpPr>
        <p:spPr>
          <a:xfrm>
            <a:off x="1752480" y="533520"/>
            <a:ext cx="556272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.4.4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检查数据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3520" y="1066680"/>
            <a:ext cx="838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检查数据库，确定数据库每个记录都与它所代表的数据库中的表和对象准确对应，可使用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ALIDATE DATABAS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示例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PEN DATABAS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教学管理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XCLU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ALIDATE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rId2"/>
          </p:cNvPr>
          <p:cNvSpPr/>
          <p:nvPr/>
        </p:nvSpPr>
        <p:spPr>
          <a:xfrm>
            <a:off x="1752480" y="2666880"/>
            <a:ext cx="556272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.4.5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更新表和数据库的链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3276720"/>
            <a:ext cx="83055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双向链接包括前链链接和后链链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前链指向数据库中包含的表，由各个表文件的相对路径和文件名称构成，保存在数据库文件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DB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中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后链指向拥有该表的数据库，由数据库的相对路径和数据库名称构成，保存在表文件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DB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的头记录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链接被破坏后，可使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ALIDATE DABAS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COVE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子句重新建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示例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PEN DATABAS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教学管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ALIDATE DATABASE REC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57200" y="15228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.5 </a:t>
            </a:r>
            <a:r>
              <a:rPr b="1" i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数据字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rId1" action="ppaction://hlinksldjump"/>
          </p:cNvPr>
          <p:cNvSpPr/>
          <p:nvPr/>
        </p:nvSpPr>
        <p:spPr>
          <a:xfrm>
            <a:off x="1523880" y="1901880"/>
            <a:ext cx="556272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.5.3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置数据表中字段的默认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" action="ppaction://hlinkshowjump?jump=endshow"/>
          </p:cNvPr>
          <p:cNvSpPr/>
          <p:nvPr/>
        </p:nvSpPr>
        <p:spPr>
          <a:xfrm>
            <a:off x="1523880" y="6162840"/>
            <a:ext cx="556272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退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rId2" action="ppaction://hlinksldjump"/>
          </p:cNvPr>
          <p:cNvSpPr/>
          <p:nvPr/>
        </p:nvSpPr>
        <p:spPr>
          <a:xfrm>
            <a:off x="1523880" y="1370160"/>
            <a:ext cx="556272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.5.2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置数据表中字段的标题和注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" action="ppaction://hlinkshowjump?jump=nextslide"/>
          </p:cNvPr>
          <p:cNvSpPr/>
          <p:nvPr/>
        </p:nvSpPr>
        <p:spPr>
          <a:xfrm>
            <a:off x="1523880" y="828720"/>
            <a:ext cx="556272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.5.1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长表名和表中的长字段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>
            <a:hlinkClick r:id="rId3" action="ppaction://hlinksldjump"/>
          </p:cNvPr>
          <p:cNvSpPr/>
          <p:nvPr/>
        </p:nvSpPr>
        <p:spPr>
          <a:xfrm>
            <a:off x="1523880" y="2435400"/>
            <a:ext cx="556272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.5.4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指定输入掩码和定义字段格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rId4" action="ppaction://hlinksldjump"/>
          </p:cNvPr>
          <p:cNvSpPr/>
          <p:nvPr/>
        </p:nvSpPr>
        <p:spPr>
          <a:xfrm>
            <a:off x="1523880" y="2967120"/>
            <a:ext cx="556272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.5.5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置数据库表的有效规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rId5" action="ppaction://hlinksldjump"/>
          </p:cNvPr>
          <p:cNvSpPr/>
          <p:nvPr/>
        </p:nvSpPr>
        <p:spPr>
          <a:xfrm>
            <a:off x="1523880" y="3500280"/>
            <a:ext cx="556272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.5.6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置触发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rId6" action="ppaction://hlinksldjump"/>
          </p:cNvPr>
          <p:cNvSpPr/>
          <p:nvPr/>
        </p:nvSpPr>
        <p:spPr>
          <a:xfrm>
            <a:off x="1523880" y="4564080"/>
            <a:ext cx="556272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.5.8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创建永久关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rId7" action="ppaction://hlinksldjump"/>
          </p:cNvPr>
          <p:cNvSpPr/>
          <p:nvPr/>
        </p:nvSpPr>
        <p:spPr>
          <a:xfrm>
            <a:off x="1523880" y="4032360"/>
            <a:ext cx="556272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.5.7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关键字值和侯选关键字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rId8" action="ppaction://hlinksldjump"/>
          </p:cNvPr>
          <p:cNvSpPr/>
          <p:nvPr/>
        </p:nvSpPr>
        <p:spPr>
          <a:xfrm>
            <a:off x="1523880" y="5097600"/>
            <a:ext cx="556272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.5.9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置参照完整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rId9" action="ppaction://hlinksldjump"/>
          </p:cNvPr>
          <p:cNvSpPr/>
          <p:nvPr/>
        </p:nvSpPr>
        <p:spPr>
          <a:xfrm>
            <a:off x="1523880" y="5629320"/>
            <a:ext cx="556272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.5.10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建立存储过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>
            <a:hlinkClick r:id="rId1" action="ppaction://hlinksldjump"/>
          </p:cNvPr>
          <p:cNvSpPr/>
          <p:nvPr/>
        </p:nvSpPr>
        <p:spPr>
          <a:xfrm>
            <a:off x="1752480" y="623880"/>
            <a:ext cx="556272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.5.1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长表名和表中的长字段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rId2"/>
          </p:cNvPr>
          <p:cNvSpPr/>
          <p:nvPr/>
        </p:nvSpPr>
        <p:spPr>
          <a:xfrm>
            <a:off x="3962520" y="1371600"/>
            <a:ext cx="15238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表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2033640"/>
            <a:ext cx="815328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数据库表可具有长表名，最多可包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字符，能够更真实的反映数据表的内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创建方式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表设计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命令格式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REATE TABLE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据表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 NAME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据表的长表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 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段名 字段类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段宽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,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示例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PEN DATABAS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教学管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REATE TABL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教材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AM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全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级学生使用教材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班级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(10)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教材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(20)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价格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(5,2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>
            <a:hlinkClick r:id="rId1"/>
          </p:cNvPr>
          <p:cNvSpPr/>
          <p:nvPr/>
        </p:nvSpPr>
        <p:spPr>
          <a:xfrm>
            <a:off x="3733920" y="609480"/>
            <a:ext cx="17524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字段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1143000"/>
            <a:ext cx="77724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适用于数据库表中的字段，可长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字符，自由表的字段名最多只能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字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从数据库中移去一个数据表时，数据表的长字段名被截为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字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当一个数据表与数据库相关联时，必须使用长字段名来引用该表中的字段，不能使用长度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字符的字段名来引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在索引文件中也可以使用长字段名。但是，如果把用长字段名创建索引的表从数据库中移去时，该索引文件将不会工作。此时，需要删除此索引文件，并用短字段名重新建立索引文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143000" y="838080"/>
            <a:ext cx="670572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.1 </a:t>
            </a:r>
            <a:r>
              <a:rPr b="1" i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设计数据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" action="ppaction://hlinksldjump"/>
          </p:cNvPr>
          <p:cNvSpPr/>
          <p:nvPr/>
        </p:nvSpPr>
        <p:spPr>
          <a:xfrm>
            <a:off x="1523880" y="3301920"/>
            <a:ext cx="556272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.1.3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确定所需字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" action="ppaction://hlinkshowjump?jump=endshow"/>
          </p:cNvPr>
          <p:cNvSpPr/>
          <p:nvPr/>
        </p:nvSpPr>
        <p:spPr>
          <a:xfrm>
            <a:off x="1523880" y="5400720"/>
            <a:ext cx="556272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退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1523880" y="2603520"/>
            <a:ext cx="556272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.1.2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将需求分类放入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1523880" y="1905120"/>
            <a:ext cx="556272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.1.1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分析数据需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2" action="ppaction://hlinksldjump"/>
          </p:cNvPr>
          <p:cNvSpPr/>
          <p:nvPr/>
        </p:nvSpPr>
        <p:spPr>
          <a:xfrm>
            <a:off x="1523880" y="4700520"/>
            <a:ext cx="556272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.1.5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计优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3" action="ppaction://hlinksldjump"/>
          </p:cNvPr>
          <p:cNvSpPr/>
          <p:nvPr/>
        </p:nvSpPr>
        <p:spPr>
          <a:xfrm>
            <a:off x="1523880" y="4002120"/>
            <a:ext cx="556272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.1.4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确定关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>
            <a:hlinkClick r:id="rId1"/>
          </p:cNvPr>
          <p:cNvSpPr/>
          <p:nvPr/>
        </p:nvSpPr>
        <p:spPr>
          <a:xfrm>
            <a:off x="1447920" y="623880"/>
            <a:ext cx="632448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.5.2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设置数据表中字段的标题和注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" y="1371600"/>
            <a:ext cx="8610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设置方式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“表设计器”的“字段注释”编辑区域中输入注释文本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给数据库表中的字段添加标题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“表设计器”“显示”区域的“标题”文本框中输入标题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使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BSETPRO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）函数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BSETPROP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据表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段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FIELD,CAPTION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标题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BSETPROP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据表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段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FIELD, COMMENT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注释内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说明：函数返回值为逻辑值，如果添加成功，返回真值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示例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PEN DATABAS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教学管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BSETPROP(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生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班级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“FIELD”,“CAPTION”,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全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级的班级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>
            <a:hlinkClick r:id="rId1"/>
          </p:cNvPr>
          <p:cNvSpPr/>
          <p:nvPr/>
        </p:nvSpPr>
        <p:spPr>
          <a:xfrm>
            <a:off x="1752480" y="723960"/>
            <a:ext cx="556272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.5.3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设置数据表中字段的默认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9480" y="1469880"/>
            <a:ext cx="8229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设置方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使用“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表设计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”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使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REATE TABL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的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DEFAUL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子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示例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REATE TABL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分数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号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(8)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课程号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(4)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成绩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(6,2) DEFAULT 1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如果数据表已经存在，也可使用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ALTER TABL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示例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LTER TABL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分数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LTER COLUMN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成绩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T DEFAULT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完整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LTER TABLE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据表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 ALTER [COLUMN]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段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 [NULL/NOT NULL] [SET DEFAULT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 [SET CHECK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 [ERROR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符串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] [DROP DEFAULT] [DROP CHECK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>
            <a:hlinkClick r:id="rId1"/>
          </p:cNvPr>
          <p:cNvSpPr/>
          <p:nvPr/>
        </p:nvSpPr>
        <p:spPr>
          <a:xfrm>
            <a:off x="1600200" y="457200"/>
            <a:ext cx="594360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.5.4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指定输入掩码和定义字段格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990720"/>
            <a:ext cx="84582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指定输入掩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就是定义字段中的值必须遵守的标点、空格和其他格式要求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设置方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使用“表设计器”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使用函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BSETPRO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）设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示例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BSETPROP("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生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电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","FIELD","INPUTMASK", "9999-9999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rId2"/>
          </p:cNvPr>
          <p:cNvSpPr/>
          <p:nvPr/>
        </p:nvSpPr>
        <p:spPr>
          <a:xfrm>
            <a:off x="1600200" y="3429000"/>
            <a:ext cx="594360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.5.5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设置数据库表的有效规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3962520"/>
            <a:ext cx="8686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有效性规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通过创建字段级和记录级规则，可以控制输入到数据库表的记录和字段中的数据，这些规则称为有效性规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字段级和记录级规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将把所输入的值与所定义的规则表达式进行比较，如果输入的值不满足规则要求，则拒绝该值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有效性规则只在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数据库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存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如果从数据库中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移去或删除一个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所有属于该表的字段级和记录级规则都会从数据库中删除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>
            <a:hlinkClick r:id="rId1"/>
          </p:cNvPr>
          <p:cNvSpPr/>
          <p:nvPr/>
        </p:nvSpPr>
        <p:spPr>
          <a:xfrm>
            <a:off x="3505320" y="380880"/>
            <a:ext cx="21333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段级规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831960"/>
            <a:ext cx="82296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设置方式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表设计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在“规则”文本框中输入表达式来建立字段的有效性规则，在“信息”文本框中，定制错误信息提醒用户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命令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REATE TABLE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据表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 (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段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段类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[(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段宽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)]) CHECK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 [ERROR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符串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LTER TABLE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据表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 ALTER COLUMN  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段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 SET CHECK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 [ERROR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符串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说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设置字段的有效性规则，可以控制输入到字段中的数据类型，以便能检验输入的数据是否正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字段级规则在字段值改变时发生作用，如果字段值没有改变，不检查规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表达式必须是逻辑表达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示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LTER TABL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分数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LTER COLUMN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成绩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T CHECK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成绩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=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>
            <a:hlinkClick r:id="rId1"/>
          </p:cNvPr>
          <p:cNvSpPr/>
          <p:nvPr/>
        </p:nvSpPr>
        <p:spPr>
          <a:xfrm>
            <a:off x="3352680" y="609480"/>
            <a:ext cx="2133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记录级规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1143000"/>
            <a:ext cx="822960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设置方式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表设计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在“表”选项卡的“记录有效性”的“规则”文本框中输入表达式，在“信息”文本框中输入错误提示信息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命令方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REATE TABLE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据表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段名 字段类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段宽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) CHECK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 [ERROR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符串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LTER TABLE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据表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 SET CHECK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 [ERROR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符串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说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使用记录的有效性规则，可以控制用户输入到记录中的信息类型，来检验输入的数据是否正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记录的有效性规则通常在输入或修改记录时被激活，在删除记录时一般不使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>
            <a:hlinkClick r:id="rId1"/>
          </p:cNvPr>
          <p:cNvSpPr/>
          <p:nvPr/>
        </p:nvSpPr>
        <p:spPr>
          <a:xfrm>
            <a:off x="2209680" y="533520"/>
            <a:ext cx="449604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.5.6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设置触发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3520" y="1219320"/>
            <a:ext cx="830556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触发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指在对数据库表中的记录进行插入、删除、更新时所启动的表达式。一般有插入、更新和删除三种形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插入触发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表示在数据库表中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插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记录时所触发的检测程序，该程序可以为表达式，也可以为自定义函数。如果响应假值时，表示触发失败，插入的记录将不被存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更新触发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表示在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修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记录后按回车键时，激发所设置的表达式或自定义函数进行检测，确定该记录被修改后是否符合所设置的规则。如果符合返回真值，保存修改后的记录；否则返回假值，不保存修改后的记录，同时还原修改之前的记录值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删除触发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表示数据表中记录被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删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时，激发所设置的表达式或自定义函数进行检测。如果检测结果为真值，该记录可以被删除；如果返回假值，则该记录禁止被删除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>
            <a:hlinkClick r:id="rId1"/>
          </p:cNvPr>
          <p:cNvSpPr/>
          <p:nvPr/>
        </p:nvSpPr>
        <p:spPr>
          <a:xfrm>
            <a:off x="3657600" y="476280"/>
            <a:ext cx="20574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创建触发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0880" y="1085760"/>
            <a:ext cx="85345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表设计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打开“表”选项卡，分别在“插入触发器”、“ 更新触发器”、“ 删除触发器”的文本框中输入触发器表达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命令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REATE TRIGGER ON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 FOR DELETE / INSERT/UPDATE AS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示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REATE TRIGGER ON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分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OR INSERT AS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成绩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=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>
            <a:hlinkClick r:id="rId2"/>
          </p:cNvPr>
          <p:cNvSpPr/>
          <p:nvPr/>
        </p:nvSpPr>
        <p:spPr>
          <a:xfrm>
            <a:off x="3657600" y="4038480"/>
            <a:ext cx="20574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修改触发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4572000"/>
            <a:ext cx="8305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使用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表设计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首先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T SAFETY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设置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F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然后再使用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CREATE TRIGGE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重新创建触发器，旧的触发器将自动删除，并且建立新的触发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>
            <a:hlinkClick r:id="rId1"/>
          </p:cNvPr>
          <p:cNvSpPr/>
          <p:nvPr/>
        </p:nvSpPr>
        <p:spPr>
          <a:xfrm>
            <a:off x="3009960" y="457200"/>
            <a:ext cx="29718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移去或删除触发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" y="990720"/>
            <a:ext cx="80773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使用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表设计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命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ELETE TRIGGER ON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据表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 FOR DELETE/INSERT/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示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ELETE TRIGGER ON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分数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OR INS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>
            <a:hlinkClick r:id="rId2" action="ppaction://hlinksldjump"/>
          </p:cNvPr>
          <p:cNvSpPr/>
          <p:nvPr/>
        </p:nvSpPr>
        <p:spPr>
          <a:xfrm>
            <a:off x="1676520" y="3062160"/>
            <a:ext cx="563868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.5.7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主关键字值和侯选关键字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>
            <a:hlinkClick r:id="rId3"/>
          </p:cNvPr>
          <p:cNvSpPr/>
          <p:nvPr/>
        </p:nvSpPr>
        <p:spPr>
          <a:xfrm>
            <a:off x="3505320" y="3657600"/>
            <a:ext cx="21333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关键字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4191120"/>
            <a:ext cx="8076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在数据库表中，通过主关键字值可以建立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主索引文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主关键字值只能建立在数据库表中，并且该字段值不能有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重复的数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不能为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空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Null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数据库中的任何一个数据表只能建立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一个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主索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设置方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表设计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04920" y="762120"/>
            <a:ext cx="861048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命令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REATE TABLE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据表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 (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段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段类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(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段宽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)) PRIMARY KEY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 TAG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标记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LTER TABLE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据表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 ADD PRIMARY KEY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 TAG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标记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示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PEN  DATABAS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教学管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生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LTER TABL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生表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DD PRIMARY KEY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号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AG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>
            <a:hlinkClick r:id="rId1"/>
          </p:cNvPr>
          <p:cNvSpPr/>
          <p:nvPr/>
        </p:nvSpPr>
        <p:spPr>
          <a:xfrm>
            <a:off x="3429000" y="3733920"/>
            <a:ext cx="24382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侯选关键字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43434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通过候选关键字值可以建立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候选索引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并且该字值可以成为主关键字值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该字段值不能为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空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有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重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数据，但它既可设置在自由表中，也可设置在数据库表中，而且每一个表中可针对需求设置多个候选索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57200" y="685800"/>
            <a:ext cx="8381880" cy="12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设置方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表设计器与命令方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示例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生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DEX ON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号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AG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号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ANDI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rId1"/>
          </p:cNvPr>
          <p:cNvSpPr/>
          <p:nvPr/>
        </p:nvSpPr>
        <p:spPr>
          <a:xfrm>
            <a:off x="3505320" y="1981080"/>
            <a:ext cx="21333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唯一性键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2489040"/>
            <a:ext cx="822960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通过唯一性键值可以建立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唯一索引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唯一性键值不限制数据表中该字段值的唯一性，但在建立的索引文件中，只保留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同值记录的第一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设置方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表设计器与命令方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057400" y="4205160"/>
            <a:ext cx="480060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.5.8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创建永久关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480060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永久关系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存储在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数据库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的数据表之间的关系，是相对于用命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T RELATION T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建立的临时关系而言的，他们存储在数据库文件中，不需要每次使用时都重建，在“数据库设计器”中，显示为联系数据表索引的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线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rId1" action="ppaction://hlinksldjump"/>
          </p:cNvPr>
          <p:cNvSpPr/>
          <p:nvPr/>
        </p:nvSpPr>
        <p:spPr>
          <a:xfrm>
            <a:off x="2209680" y="1690560"/>
            <a:ext cx="426744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.1.1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分析数据需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2333520"/>
            <a:ext cx="80773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明确数据库的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目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即需要从数据库中得到哪些信息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确定需要保存哪些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主题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信息（表），以及每个主题需要保存哪些信息（表中的字段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和数据库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使用人员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多交换意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4724280"/>
            <a:ext cx="80773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仔细研究需要从数据库中提取的信息，并把这些信息分成各种</a:t>
            </a:r>
            <a:r>
              <a:rPr b="0" lang="zh-CN" sz="2400" spc="-1" strike="noStrike">
                <a:solidFill>
                  <a:srgbClr val="ff33cc"/>
                </a:solidFill>
                <a:latin typeface="宋体"/>
              </a:rPr>
              <a:t>基本主题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每个主题都是一个独立的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注意</a:t>
            </a:r>
            <a:r>
              <a:rPr b="0" lang="zh-CN" sz="2400" spc="-1" strike="noStrike">
                <a:solidFill>
                  <a:srgbClr val="ff33cc"/>
                </a:solidFill>
                <a:latin typeface="宋体"/>
              </a:rPr>
              <a:t>防止删除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有用的信息，同一信息尽量只保存一次，这样将减少出错的可能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2" action="ppaction://hlinksldjump"/>
          </p:cNvPr>
          <p:cNvSpPr/>
          <p:nvPr/>
        </p:nvSpPr>
        <p:spPr>
          <a:xfrm>
            <a:off x="2209680" y="4038480"/>
            <a:ext cx="426744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.1.2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将需求分类放入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380880"/>
            <a:ext cx="82296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据库设计的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步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明确目的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确定需要的表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确定所需字段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确定关系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设计求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133720" y="304920"/>
            <a:ext cx="480060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.5.8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创建永久关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914400"/>
            <a:ext cx="822960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设置方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命令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REATE TABLE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据库表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&gt; FOREIGN KEY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 TAG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标识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REFERENCES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据库表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LTER TABLE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据库表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&gt; ADD FOREIGN KEY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 TAG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标识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 REFERENCES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据库表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示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PEN DATABAS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教学管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生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LTER TABL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生表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DD PRIMARY KEY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号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AG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LTER TABL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分数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DD FOREIGN KEY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号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AG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号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FERENCES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生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DIFY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注意：在一对多关系中，“一方”必须用主关键字建立主索引，“多方”则可使用普通索引关键字建立普通索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数据库设计器方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133720" y="471600"/>
            <a:ext cx="480060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.5.8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创建永久关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1219320"/>
            <a:ext cx="82296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数据库中永久关系的删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命令方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LTER TABLE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据库表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 DROP FOREIGN KEY TAG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标识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 [SAV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示例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LTER TABL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生表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ROP FOREIGN KEY TAG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号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数据库设计器方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133720" y="4357800"/>
            <a:ext cx="480060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.5.9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设置参照完整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512136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参照完整性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ferential Integrit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就是指建立一组规则，当用户插入、更新或删除记录时保护数据表之间已定义的关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04920" y="1036800"/>
            <a:ext cx="883908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实施参照完整性规则可以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确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当主表中没有关联记录时，记录不得添加到相关表中；主表的值不能改变，若这个改变将导致相关表中出现孤立记录；若某主表记录在相关表中有匹配记录，则该主表记录不能被删除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使用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参照完整性生成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133720" y="457200"/>
            <a:ext cx="480060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.5.9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设置参照完整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33720" y="3641760"/>
            <a:ext cx="480060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.5.10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建立存储过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4253040"/>
            <a:ext cx="8534520" cy="22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存储过程是存储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DB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文件中的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isual FoxPro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代码，是专门操作数据库中数据的代码过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使用存储过程主要是为了创建用户自定义函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存储过程的使用：数据库设计器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DIFY PROCED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>
            <a:hlinkClick r:id="rId1" action="ppaction://hlinksldjump"/>
          </p:cNvPr>
          <p:cNvSpPr/>
          <p:nvPr/>
        </p:nvSpPr>
        <p:spPr>
          <a:xfrm>
            <a:off x="2133720" y="471600"/>
            <a:ext cx="426708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.1.3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确定所需字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098720"/>
            <a:ext cx="8305920" cy="46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确定字段的技巧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每个字段直接和表的主题相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不要包含可推导得到或需计算的数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收集所需的全部信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以最小的逻辑单位存储信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使用主关键字段：即可以唯一确定存储在表中每个记录的一个或一组字段，它能够迅速关联多个表中的数据，并把数据组合在一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选择主关键字时需要注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isual FoxPro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不允许在主关键字段中有重复值或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ll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主关键字段不能太长，以方便记忆和键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主关键字段值最好使用能满足存储要求的最小长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>
            <a:hlinkClick r:id="rId1" action="ppaction://hlinksldjump"/>
          </p:cNvPr>
          <p:cNvSpPr/>
          <p:nvPr/>
        </p:nvSpPr>
        <p:spPr>
          <a:xfrm>
            <a:off x="2209680" y="776160"/>
            <a:ext cx="426744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.1.4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确定关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523880"/>
            <a:ext cx="8305920" cy="30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据表之间的关系可以分为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一对一关系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在一对一关系中，表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一个记录在表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只能对应一个记录，而表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的一个记录在表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也只能有一个记录与之对应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一对多关系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在一对多关系中，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一个记录在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对应多个记录，而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一个记录在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只有一个记录与之对应，这是关系型数据库中最普通的关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多对多关系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在多对多关系中，表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一个记录在表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可以对应多个记录，而表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一个记录在表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也可以对应多个记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>
            <a:hlinkClick r:id="rId1" action="ppaction://hlinksldjump"/>
          </p:cNvPr>
          <p:cNvSpPr/>
          <p:nvPr/>
        </p:nvSpPr>
        <p:spPr>
          <a:xfrm>
            <a:off x="2209680" y="776160"/>
            <a:ext cx="426744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.1.5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设计优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1371600"/>
            <a:ext cx="792468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据库设计好之后，还需要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注意的问题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字段：是否遗忘了字段？是否有需要的信息没包括进去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主关键字：是否为每个表选择了合适的主关键字？在使用这个主关键字查找具体记录时，它是否很容易记忆和键入？要确保主关键字段的值不会出现重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重复信息：是否在某个表中重复输入了同样的信息？如果是，需要将该表分成两个一对多关系的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表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是否有这么一个字段很多而记录项却很少的表，而且许多记录中的字段值为空？如果有，就要考虑重新设计该表，使它的字段减少，记录增多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143000" y="838080"/>
            <a:ext cx="670572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.2 </a:t>
            </a:r>
            <a:r>
              <a:rPr b="1" i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数据库的创建及基本操作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" action="ppaction://hlinkshowjump?jump=nextslide"/>
          </p:cNvPr>
          <p:cNvSpPr/>
          <p:nvPr/>
        </p:nvSpPr>
        <p:spPr>
          <a:xfrm>
            <a:off x="1523880" y="3301920"/>
            <a:ext cx="556272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.2.3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打开数据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" action="ppaction://hlinkshowjump?jump=endshow"/>
          </p:cNvPr>
          <p:cNvSpPr/>
          <p:nvPr/>
        </p:nvSpPr>
        <p:spPr>
          <a:xfrm>
            <a:off x="1523880" y="5400720"/>
            <a:ext cx="556272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退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" action="ppaction://hlinkshowjump?jump=nextslide"/>
          </p:cNvPr>
          <p:cNvSpPr/>
          <p:nvPr/>
        </p:nvSpPr>
        <p:spPr>
          <a:xfrm>
            <a:off x="1523880" y="2603520"/>
            <a:ext cx="556272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.2.2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项目中添加数据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" action="ppaction://hlinkshowjump?jump=nextslide"/>
          </p:cNvPr>
          <p:cNvSpPr/>
          <p:nvPr/>
        </p:nvSpPr>
        <p:spPr>
          <a:xfrm>
            <a:off x="1523880" y="1905120"/>
            <a:ext cx="556272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.2.1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创建数据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1" action="ppaction://hlinksldjump"/>
          </p:cNvPr>
          <p:cNvSpPr/>
          <p:nvPr/>
        </p:nvSpPr>
        <p:spPr>
          <a:xfrm>
            <a:off x="1523880" y="4700520"/>
            <a:ext cx="556272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.2.5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删除数据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2" action="ppaction://hlinksldjump"/>
          </p:cNvPr>
          <p:cNvSpPr/>
          <p:nvPr/>
        </p:nvSpPr>
        <p:spPr>
          <a:xfrm>
            <a:off x="1523880" y="4002120"/>
            <a:ext cx="556272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.2.4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关闭数据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>
            <a:hlinkClick r:id="rId1"/>
          </p:cNvPr>
          <p:cNvSpPr/>
          <p:nvPr/>
        </p:nvSpPr>
        <p:spPr>
          <a:xfrm>
            <a:off x="2247840" y="457200"/>
            <a:ext cx="426744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.2.1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创建数据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990720"/>
            <a:ext cx="792468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命令方式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REATE  DATABASE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据库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数据库向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数据库设计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2"/>
          </p:cNvPr>
          <p:cNvSpPr/>
          <p:nvPr/>
        </p:nvSpPr>
        <p:spPr>
          <a:xfrm>
            <a:off x="2247840" y="3824280"/>
            <a:ext cx="426744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.2.3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打开数据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4397400"/>
            <a:ext cx="784836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命令方式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PEN  DATABASE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据库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说明：使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可以将某一打开的数据库指定为当前数据库，格式为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T  DATABASE  TO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据库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菜单方式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rId3"/>
          </p:cNvPr>
          <p:cNvSpPr/>
          <p:nvPr/>
        </p:nvSpPr>
        <p:spPr>
          <a:xfrm>
            <a:off x="2133720" y="2438280"/>
            <a:ext cx="449568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.2.2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在项目中添加数据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2120" y="29574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可以使用项目管理器中的“添加”按钮将数据库添加到项目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>
            <a:hlinkClick r:id="rId1"/>
          </p:cNvPr>
          <p:cNvSpPr/>
          <p:nvPr/>
        </p:nvSpPr>
        <p:spPr>
          <a:xfrm>
            <a:off x="2209680" y="928800"/>
            <a:ext cx="426744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.2.4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关闭数据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3520" y="1738440"/>
            <a:ext cx="8305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命令方式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LOSE  DATABASE [ALL]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LOSE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说明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LOSE DATABAS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关闭当前数据库和它所有的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菜单操作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rId2"/>
          </p:cNvPr>
          <p:cNvSpPr/>
          <p:nvPr/>
        </p:nvSpPr>
        <p:spPr>
          <a:xfrm>
            <a:off x="2209680" y="3595680"/>
            <a:ext cx="426744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.2.5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删除数据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4343400"/>
            <a:ext cx="79246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命令方式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ELETE  DATABASE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据库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 [DELETE TABLE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项目管理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1T04:19:32Z</dcterms:created>
  <dc:creator>yao</dc:creator>
  <dc:description/>
  <dc:language>en-US</dc:language>
  <cp:lastModifiedBy>yao</cp:lastModifiedBy>
  <dcterms:modified xsi:type="dcterms:W3CDTF">2001-10-16T15:43:53Z</dcterms:modified>
  <cp:revision>27</cp:revision>
  <dc:subject/>
  <dc:title>没有幻灯片标题</dc:title>
</cp:coreProperties>
</file>