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25B-8296-4DF8-BD47-FFA333A7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EEC-FC01-4F85-A73B-C4883D99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AEA-163A-439D-A2D7-5B3FEF05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3DE-5C88-4123-A845-106F89EA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E10-0CDF-4E06-A5A6-D7BFB380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B45-CB8E-44E6-A2CF-BE99FDAB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6E8-B167-44C9-AB72-AD987BB1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0E3-FAF8-495E-BF58-F5832E74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CA7-A6BB-480A-B5BE-17C4542D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87F-E8AD-46CD-84DC-429009AD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57C-740A-4DDF-9E4F-0C9FBB2D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865-4423-4982-B762-DD160CEF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E74E-8C32-4279-BB2F-90285B6A5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80880"/>
            <a:ext cx="853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可以为整个表格设置数据源，也可以为每个列单独设置数据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表格，然后单击“属性”窗口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rdSource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整个表格设置数据源打开方式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表，   请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rdSource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设置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”；如果在表格中放入打开表的字段，则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rdSource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设置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别名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“属性”窗口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rdSour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，指定与表格对象建立联系的数据源。如果没有指定表格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rdSour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，同时在当前工作区中有一个打开的表，那么表格将显示这个表的所有字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入作为表格数据源的别名或表名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想在特定的列中显示一个特定字段，也可以为列设置数据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列，然后单击“属性”窗口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trolSour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。键入作为列的数据源的别名、表名或字段名。例如，可以键入“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2:02:48Z</dcterms:created>
  <dc:creator>pcn</dc:creator>
  <dc:description/>
  <dc:language>en-US</dc:language>
  <cp:lastModifiedBy>pcn</cp:lastModifiedBy>
  <dcterms:modified xsi:type="dcterms:W3CDTF">2002-01-06T20:50:53Z</dcterms:modified>
  <cp:revision>2</cp:revision>
  <dc:subject/>
  <dc:title>没有幻灯片标题</dc:title>
</cp:coreProperties>
</file>