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19E-4552-4045-91D6-8C4A6CDF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CFA-AB13-4C34-95F8-334EF69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E2E-2CD1-49A8-9DC6-D2735F29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AFC-6E4E-482F-AEF4-1FAB53C4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D49-32BE-4BF1-8CBD-3AAC607E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D28-D9E0-479A-A7AB-A1E77BF4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829-0904-45C0-A2FD-60268EE5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10B-76E7-4B40-A5C5-C2E6FB0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A98-FF6A-48C5-9251-4CB19CD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95C-BF15-4B36-AA4E-766E0E0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E35-1BB6-474E-A4FB-880801B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A5F-E24D-4876-8E9B-F87B7BF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E6B-B2EA-4DB8-8806-2B42F66D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0492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章 数据表的创建及操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828800" y="145656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创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25504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维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85200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统计与汇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05352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排序、索引与查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65048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个数据表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828800" y="5448600"/>
            <a:ext cx="51814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的相对移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14400"/>
            <a:ext cx="6782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[+/-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维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82880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结构的修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1828800" y="263376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和编辑数据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36384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数据表中的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0924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显示、复制、删除与更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1828800" y="4822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与数据表之间的数据交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endshow"/>
          </p:cNvPr>
          <p:cNvSpPr/>
          <p:nvPr/>
        </p:nvSpPr>
        <p:spPr>
          <a:xfrm>
            <a:off x="1828800" y="555300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结构的修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29528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S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447920" y="2986200"/>
            <a:ext cx="6019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显示和编辑数据表中的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1911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LO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REEZ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NOMENU] [NOAPPEND] [NOMODIFY] [WIDTH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PARTITI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LEDIT] [REDIT] [NOLIN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657600"/>
            <a:ext cx="3657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浏览修改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14300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FREEZ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PARTITION 12 L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WIDT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NOAPP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NO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NO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520"/>
            <a:ext cx="3657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浏览修改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CHANGE/ED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31800"/>
            <a:ext cx="8077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/EDIT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 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庭住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5146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REPL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895480"/>
            <a:ext cx="815364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WITH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[ADDITIVE] 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 WITH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 [ADDITIVE]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  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92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通用型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85800"/>
            <a:ext cx="81532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GENERAL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型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NOMODIFY] [NOWAIT] [IN SCRE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1981080" y="1752480"/>
            <a:ext cx="4648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删除数据表中的记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4114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28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36232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删除数据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81532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[FOR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LETED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LET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57200"/>
            <a:ext cx="441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恢复数据表中逻辑删除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066680"/>
            <a:ext cx="800100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ALL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02920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删除数据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638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数据表中的所有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9907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AFETY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件的显示、复制、删除与更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7432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目录的显示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830592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/DIRECTORY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 FILES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ILES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 *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 C:\*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04920"/>
            <a:ext cx="3276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文件内容的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9528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90512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任意类型文件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338560"/>
            <a:ext cx="73915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F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860640"/>
            <a:ext cx="34290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表文件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437000"/>
            <a:ext cx="807732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融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584280"/>
            <a:ext cx="34290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表结构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1560"/>
            <a:ext cx="861084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STRUCTURE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Y STRUCTURE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  FIELD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，姓名，家庭住址，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2670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更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853160"/>
            <a:ext cx="83818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 E:\VFP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名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 E:\VFP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名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创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18464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文件的打开、关闭、显示和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1523880" y="517212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19716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数据的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523880" y="220968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990720"/>
            <a:ext cx="76201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R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FIL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名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12408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另外的数据表中向当前表文件添加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7339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PPEND FROM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Y STRU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PPEND FRO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91440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排序、索引与查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2247840" y="228600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47840" y="322596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16556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查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2247840" y="510552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1600200" y="6094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排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077920"/>
            <a:ext cx="838188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据表的排序：把数据表文件中的记录按照某个字段值的大小顺序重新排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关键字：作为排序依据的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升序：按照关键字值从小到大的顺序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降序：按照关键字值由大到小的顺序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据大小的比较规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是数值型、日期型的数据进行比较，则由其本身的大小决定；字符型数据由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值确定，汉字由机内码确定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371600"/>
            <a:ext cx="1295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45720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90720"/>
            <a:ext cx="838188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RT 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/A][/D][/C]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[/A][/D][/C]…][ASCENDING/DESCENDING]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FIELD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RT TO STUDENT1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STUD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RT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77616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索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5276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为什么使用索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排序造成了数据冗余，浪费存储空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对数据表文件进行增、删、改操作时，需要重新进行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什么是索引文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索引文件是由指针构成的，这些指针逻辑上按照索引关键字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索引文件和表文件分别进行存储，并不改变表中记录的物理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600200" y="6094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索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295280"/>
            <a:ext cx="266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05120"/>
            <a:ext cx="8001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独立索引文件：扩展名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各个索引文件只能包含一个单一的关键字或者组合关键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独立索引文件可分为：压缩索引文件和非压缩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复合索引文件：扩展名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一个复合索引文件中可以包含多个索引选项，每个索引选项叫做索引标识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Ta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有两种类型：结构复合索引文件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tructural Compound Ind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独立复合索引文件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pendent Compound Ind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6858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184400"/>
            <a:ext cx="84582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建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独立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[UNIQUE] [COMPACT] [ADDITI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838080"/>
            <a:ext cx="845820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建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[UNIQUE/CANDIDATE] [ASCENDING/DESCENDING] [ADDITIVE]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572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80880"/>
            <a:ext cx="350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打开与关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66800"/>
            <a:ext cx="8458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控索引文件：在打开的索引文件中，排在最前面的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索引文件不能脱离所依赖的数据表文件而单独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结构化复合索引文件将随着数据表文件的打开而自动打开，其它索引文件则需要使用索引文件的打开命令进行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据表文件只按主控索引文件的顺序显示各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若主控索引文件为复合索引文件，则记录显示与存取的次序仍按各记录实际存放的顺序，只有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RD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定主标记后，才按主标记的次序显示与存取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对数据表文件进行增、删、改操作时，系统会自动修改所有打开的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关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457200"/>
            <a:ext cx="586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打开数据表文件的同时打开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99072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？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INDEX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？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ORDER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ASCENDING/DESENDING]]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表示该索引文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顺序号，其规则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先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编号，然后是结构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索引标记，最后是独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的索引标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为零，则记录将按记录号的顺序访问和显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RDER TAG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结构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051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文件名：表文件的主要标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：字段名、类型、宽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：标文件的基本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533520" y="3581280"/>
            <a:ext cx="2286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的创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1911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/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向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380880"/>
            <a:ext cx="701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数据表文件己经打开的情况下打开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914400"/>
            <a:ext cx="8153280" cy="37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?] [ORDER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ASCENDING/DESCENDING]] [ADDITI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RDER 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D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7242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打开的索引文件中设置主控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 ASCENDING / DESCENDING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45720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打开的索引文件中设置主控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990720"/>
            <a:ext cx="876312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2 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18148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闭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527800"/>
            <a:ext cx="68580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新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47920"/>
            <a:ext cx="4800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复合索引文件中的索引标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828800"/>
            <a:ext cx="83818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TAG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] 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]]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ALL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1600200" y="33670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查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038480"/>
            <a:ext cx="3657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数据表有关的几个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64832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文件开始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18148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-1             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3808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文件结束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83808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0384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号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49568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ECN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4             ?RECN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测试查询结果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UN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44792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FI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981080"/>
            <a:ext cx="8001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串或数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于小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RECNO() 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M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  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&amp;X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FOUND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8088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SEE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914400"/>
            <a:ext cx="800100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RDE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IDX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ASCENDING/DESCENDING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二    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“9902020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章闻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M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  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X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09480"/>
            <a:ext cx="419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LOC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319040"/>
            <a:ext cx="815328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WHILE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129528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4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统计与汇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2247840" y="266688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统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7840" y="365760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汇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2247840" y="464832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1600200" y="31896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4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统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99072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447920"/>
            <a:ext cx="800100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会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 TO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B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8769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和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5425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TO ARRA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936720"/>
            <a:ext cx="8077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99010301” TO 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和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9718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平均值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554280"/>
            <a:ext cx="80010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TO ARRA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99010301” TO CJP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JP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73200" y="449280"/>
          <a:ext cx="793728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9280"/>
                    <a:ext cx="793728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4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汇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90720"/>
            <a:ext cx="81532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当前表必须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过排序或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汇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汇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66680" y="7621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个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使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2266920" y="198108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工作区的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6920" y="279720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之间的关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66920" y="361476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之间的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66920" y="443088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文件的更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2266920" y="524844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选择工作区的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143000"/>
            <a:ext cx="83055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定义别名的命令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表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ALIA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表文件的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LIAS X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工作区的区号可以用正整数表示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工作区也可以用英文字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A        SELECT 1     SELECT X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前工作区：最后被选择的工作区。使用其它工作区中字段的命令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.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—&gt;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，姓名，班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838080"/>
            <a:ext cx="84582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…][ADDITIVE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必须是相关联的两个表文件共同具有的字段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必须已经按关键字表达式建立了索引文件并处于打开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两个表文件建立关联后，当前表文件的记录指针移到某一记录时，被关联的表文件的记录指针也自动指向关键字值相同的记录上。如果被关联的表文件具有多个关键字值相同的记录，则指针只指向关键字值相同的第一条记录。如果被关联的表文件中没有找到匹配的记录，指针指向文件尾，即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）的值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T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DITIV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914400"/>
            <a:ext cx="8458200" cy="47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…][ADDITIVE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命令中使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两个表文件按照记录号进行关联，这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可以不用建立相关的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中有多个关键字值相同的记录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的指针只能指向关键字值相同的第一条记录上，如果需要找到关键字值相同的多个记录，可以使用下面的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SKIP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]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需要切断当前数据表与特定数据表之间的关联，可以使用命令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OFF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1600200" y="6238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00200"/>
            <a:ext cx="845820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数据表“分数”与“学生表”建立关联后，显示学生的学号、姓名、性别、班级、成绩等字段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336680"/>
            <a:ext cx="82296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将“学生表”与“分数”仍按“学号”建立关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SKIP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1600200" y="6238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00200" y="24300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685800"/>
            <a:ext cx="845820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OIN WITH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表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把已存在的数据表“分数”和“学生表”通过“学号”联接起来，生成新的数据表文件“学生分数”，新表文件中包含如下字段：学号、姓名、班级、课程号、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OIN WITH A 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ELD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00200" y="24300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文件的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623880"/>
            <a:ext cx="861048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PDATE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FROM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REPLAC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WITH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WITH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…] [RAND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假如在数据表“学生表”中增加了“总成绩”的字段，然后用数据表“分数”来计算学生的总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PDATE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ROM B REPLAC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成绩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类型及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名：必须以字母或汉字开头，可以包括字母、汉字、数字和下划线，不要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姓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X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、“成绩”、班级：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类型：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宽度：不同类型的字段具有不同的宽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小数位：数值型数据需要规定小数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：可以指定字段是否接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，它是一个不存在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数据的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358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数据表时输入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358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浏览窗口追加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备注型字段与通用型字段内容的输入：双击鼠标左键，进入相应的编辑窗口进行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33520" y="38862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495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[BLAN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533520" y="510552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638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[BEFORE] [BLAN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838080" y="623880"/>
            <a:ext cx="74678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文件的打开、关闭、显示和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的打开与关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0512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533520" y="350532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的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60548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S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0384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的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990720"/>
            <a:ext cx="84582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/DISPLAY [OFF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[FIELDS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可选值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从当前记录开始以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从当前记录开始到文件末尾的所有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全部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OFF 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572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的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1440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指针：用来指示表文件中记录位置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记录：指针当前所指向的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533520" y="4572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指针的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05740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的绝对移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14600"/>
            <a:ext cx="6858000" cy="43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/GOTO [RECORD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/GOTO TOP/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TO REC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3:39:59Z</dcterms:created>
  <dc:creator>yao</dc:creator>
  <dc:description/>
  <dc:language>en-US</dc:language>
  <cp:lastModifiedBy>yao</cp:lastModifiedBy>
  <dcterms:modified xsi:type="dcterms:W3CDTF">2001-10-09T14:26:06Z</dcterms:modified>
  <cp:revision>37</cp:revision>
  <dc:subject/>
  <dc:title>没有幻灯片标题</dc:title>
</cp:coreProperties>
</file>