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8A8F-61A9-41DE-A706-FDD755E90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F798-E7E1-4B4F-82E2-0E4A49119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FDFF-FEC2-44A1-B1D0-9A9966294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A07F-0364-4819-BE61-062054983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A491-0AA2-48F2-B0BC-CC3DD30BF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49D5-B630-46E4-96FF-4CAC9AC76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059E-E2A8-4DD0-B374-B3D810D95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6206-D5BA-46CB-921C-81EEC44FE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88FF-4C4D-47E9-8D28-54D8CD6E5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41CC-E221-432F-8898-B8C6E6E94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4689-1B38-4C0D-AA88-1EECDADBD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4CB2-760B-4ADE-9CCA-5E48FB74E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D3C49-D95B-40B5-BC4A-C2CC10633A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304920"/>
            <a:ext cx="8458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若要将表格控件添加到表单，请在“表单控件”工具栏中选择“表格”按钮，并在“表单”窗口中调整为期望的大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首先需要设置的表格控件属性为“列数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设计时人工调整表格的显示效果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属性和方法程序列表中选择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olumnCoun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属性，在属性框中，键入需要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列值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表格中加入列后应设置、改变列的宽度和行的高度。可以在“属性”窗口中人工设置列和行对象的高度和宽度属性，也可以在设计表格时以可视方式设置这些属性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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调整表格中列的宽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表格设计方式下，将鼠标指针置于表格列的标头之间，这时指针变为带有左右两个方向箭头的竖条，按住鼠标左键，将列拖动到需要的宽度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或者在“属性”窗口设置列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Widt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属性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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调整表格中行的高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表格设计方式下，将鼠标指针置于“表格”控件左侧的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按钮和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按钮之间，这时指针将变成带有向上和向下箭头的横条。按住鼠标左键，将行拖动到需要的宽度。或者在“属性”窗口中设置列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Heigh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属性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3T01:57:45Z</dcterms:created>
  <dc:creator>pcn</dc:creator>
  <dc:description/>
  <dc:language>en-US</dc:language>
  <cp:lastModifiedBy>pcn</cp:lastModifiedBy>
  <dcterms:modified xsi:type="dcterms:W3CDTF">2002-01-06T20:51:15Z</dcterms:modified>
  <cp:revision>2</cp:revision>
  <dc:subject/>
  <dc:title>没有幻灯片标题</dc:title>
</cp:coreProperties>
</file>