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7BA3-7E33-411B-8894-5A432548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C7B-01B5-4A3E-9C75-2087FECD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51A-BD0E-446B-A56E-37B123A9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827-8125-40E6-BA3F-07888EAE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7C0-C095-4AC6-A28B-5557BE89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D4BA-3E62-448F-B646-CC1CEC99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2DC-9864-42A6-967B-D3E36607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AB8-9A14-471E-BD8D-5D8668C4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10E-8D71-4946-9DDC-90754B3E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889-DF39-4477-B904-120EFEAA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5F2-C5DF-4583-B177-5E95175E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F71-25A7-4E52-A39B-2F0C2F6B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0A27-A259-4734-AD4D-EBB9D331C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21.xml"/><Relationship Id="rId3" Type="http://schemas.openxmlformats.org/officeDocument/2006/relationships/slide" Target="slide28.xml"/><Relationship Id="rId4" Type="http://schemas.openxmlformats.org/officeDocument/2006/relationships/slide" Target="slide63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" Target="slide44.xml"/><Relationship Id="rId5" Type="http://schemas.openxmlformats.org/officeDocument/2006/relationships/slide" Target="slide49.xml"/><Relationship Id="rId6" Type="http://schemas.openxmlformats.org/officeDocument/2006/relationships/slide" Target="slide50.xml"/><Relationship Id="rId7" Type="http://schemas.openxmlformats.org/officeDocument/2006/relationships/slide" Target="slide62.xml"/><Relationship Id="rId8" Type="http://schemas.openxmlformats.org/officeDocument/2006/relationships/slide" Target="slide56.xml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hyperlink" Target="file:///C:/Program%20Files/Microsoft%20Visual%20Studio/Vfp98/VFP6.EXE" TargetMode="External"/><Relationship Id="rId5" Type="http://schemas.openxmlformats.org/officeDocument/2006/relationships/hyperlink" Target="file:///C:/Program%20Files/Microsoft%20Visual%20Studio/Vfp98/VFP6.EXE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0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609480"/>
            <a:ext cx="883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章 数据库管理系统基础知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1828800" y="183744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1828800" y="261396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存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1828800" y="339012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算符及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1828800" y="416628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1828800" y="494280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1828800" y="571896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/>
          </p:cNvPr>
          <p:cNvSpPr/>
          <p:nvPr/>
        </p:nvSpPr>
        <p:spPr>
          <a:xfrm>
            <a:off x="3200400" y="457200"/>
            <a:ext cx="27432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2.2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变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1981080"/>
            <a:ext cx="1981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0666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使用过程中其值可以改变的量。包括字段变量、内存变量、数组变量和系统内存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514600"/>
            <a:ext cx="8381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段变量隶属于数据表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表是存在于计算机中的一个二维表格，数据表中的每一列称为一个字段，是数据表进行数据处理的基本单位；数据表中的每一行内容称为一条记录，由若干个相关联的字段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数据表中，字段必须先定义后赋值，然后才可以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段变量名由汉字、字母、数字和下划线组成，必须以字母或汉字开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段变量的数据类型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，与前面的数据类型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rId1"/>
          </p:cNvPr>
          <p:cNvSpPr/>
          <p:nvPr/>
        </p:nvSpPr>
        <p:spPr>
          <a:xfrm>
            <a:off x="3086280" y="457200"/>
            <a:ext cx="2819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90720"/>
            <a:ext cx="8153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内存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存在于内存中的变量，常被用来存储所需要的常数、中间结果或最终结果。变量名由汉字、字母、数字和下划线组成，必须由字母或汉字开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内存变量名与字段变量名相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字段名优先于内存变量名，使用时可以在内存变量名前加上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-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示区别，但赋值时不能使用该前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/>
          </p:cNvPr>
          <p:cNvSpPr/>
          <p:nvPr/>
        </p:nvSpPr>
        <p:spPr>
          <a:xfrm>
            <a:off x="2895480" y="3505320"/>
            <a:ext cx="32004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建立内存变量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03848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=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B+3 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A,B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3880"/>
            <a:ext cx="86104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/ DISPLAY MEMORY  [LIK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配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 [TO  PRINTER / TO F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NOCONSOL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配符指“？”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扩展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别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连续显示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页显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1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MEMORY LIKE 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/>
          </p:cNvPr>
          <p:cNvSpPr/>
          <p:nvPr/>
        </p:nvSpPr>
        <p:spPr>
          <a:xfrm>
            <a:off x="2286000" y="762120"/>
            <a:ext cx="46483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显示和打印全部的内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990720"/>
            <a:ext cx="8534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TO MEM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备注型字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ALL LIKE/ALL EXCEPT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配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内存变量文件的扩展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 TO 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 TO MM ALL LIKE X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 TO BB ALL EXCEPT ?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"/>
          </p:cNvPr>
          <p:cNvSpPr/>
          <p:nvPr/>
        </p:nvSpPr>
        <p:spPr>
          <a:xfrm>
            <a:off x="2666880" y="457200"/>
            <a:ext cx="34290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内存变量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2"/>
          </p:cNvPr>
          <p:cNvSpPr/>
          <p:nvPr/>
        </p:nvSpPr>
        <p:spPr>
          <a:xfrm>
            <a:off x="2666880" y="4038480"/>
            <a:ext cx="34290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内存变量文件的调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4572000"/>
            <a:ext cx="8686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TORE FROM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文件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OM MEM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备注型字段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ITIV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TORE FROM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TORE FROM BB ADD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1295280"/>
            <a:ext cx="8610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ALL [LIK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配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EXCEPT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配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释放指定的内存变量，但不清除系统内存变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 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关闭所有文件的同时清除所有的内存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X,Y,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ALL LIKE 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/>
          </p:cNvPr>
          <p:cNvSpPr/>
          <p:nvPr/>
        </p:nvSpPr>
        <p:spPr>
          <a:xfrm>
            <a:off x="2666880" y="609480"/>
            <a:ext cx="32767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释放内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14600" y="2224080"/>
            <a:ext cx="38862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2.3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9289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组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一组变量的集合，这些变量的数据类型可以不同，每个数组元素都可以通过一个数值下标被引用，相当于一个内存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9546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一维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各个元素按线性排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二维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类似于一个数据表，第一维是行，第二维是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124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组元素的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据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通过所赋值的数据类型来确定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547560"/>
            <a:ext cx="2819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内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311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系统内存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系统已经定义好的一些变量，通常以下划线开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rId1"/>
          </p:cNvPr>
          <p:cNvSpPr/>
          <p:nvPr/>
        </p:nvSpPr>
        <p:spPr>
          <a:xfrm>
            <a:off x="3124080" y="76212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440000"/>
            <a:ext cx="8001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命令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MENSION/DECLAR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 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]) 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&gt; 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&gt;])]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组下标，对一维数组来说，指的是数组元素的个数；对二维数组来说，指的是数组的最大行号和最大列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的下标允许使用圆括号或方括号括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同一个数组中，不同的数组元素数据类型可以不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一旦被定义之后，该数组的每个元素的初值为逻辑假值，可以使用有关的命令给数组元素赋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MENSION AB(3),C[2,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rId1"/>
          </p:cNvPr>
          <p:cNvSpPr/>
          <p:nvPr/>
        </p:nvSpPr>
        <p:spPr>
          <a:xfrm>
            <a:off x="3124080" y="45720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的赋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02564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元素的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赋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普通内存变量一样，可以通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或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给二维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一维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行赋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MENSION X(3,4),Y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5 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(1)=3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(2)=“AB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(3)=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"/>
          </p:cNvPr>
          <p:cNvSpPr/>
          <p:nvPr/>
        </p:nvSpPr>
        <p:spPr>
          <a:xfrm>
            <a:off x="3124080" y="403848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的重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572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组的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重定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CLA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MENSI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对已定义好的数组的尺寸和维数进行改变，即将一维数组变为二维数组或将二维数组变为一维数组，并且可以改变数组元素的个数，同时将原数组的数据自动复制到重定义的同名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新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rId1"/>
          </p:cNvPr>
          <p:cNvSpPr/>
          <p:nvPr/>
        </p:nvSpPr>
        <p:spPr>
          <a:xfrm>
            <a:off x="3124080" y="83808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的重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54620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的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复制原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把原数组和新数组都看作是一维的；将原数组中的数据从序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顺序地复制到新数组对应的数组元素中去；若新数组的元素个数多于原数组的元素个数，则新增加的数组元素取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，反之，只取原数组中的前若干个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组下标的排列规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数组从下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排列，二维数组的元素排列是先按行排，后按列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己定义了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6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它们对应的下标排列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6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(1,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(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(1,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(2,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(2,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(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/>
          </p:cNvPr>
          <p:cNvSpPr/>
          <p:nvPr/>
        </p:nvSpPr>
        <p:spPr>
          <a:xfrm>
            <a:off x="3124080" y="68580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的释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716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组的释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将数组从内存中删除，释放其所占的内存空间，就是数组的释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命令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关闭所有文件，同时清除所有的内存变量、数组等，但不清除系统内存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清除所有内存中的变量和数组，但不清除系统内存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名表或数组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ALL [LIK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配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EXCEPT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配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清除指定的内存变量或数组，但不清除系统内存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68580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1 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类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" y="182880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4724280" y="494028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备注型数据（二进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685800" y="245124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值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685800" y="369576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浮点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685800" y="431784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双精度符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685800" y="556272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逻辑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5" action="ppaction://hlinksldjump"/>
          </p:cNvPr>
          <p:cNvSpPr/>
          <p:nvPr/>
        </p:nvSpPr>
        <p:spPr>
          <a:xfrm>
            <a:off x="685800" y="494028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货币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6" action="ppaction://hlinksldjump"/>
          </p:cNvPr>
          <p:cNvSpPr/>
          <p:nvPr/>
        </p:nvSpPr>
        <p:spPr>
          <a:xfrm>
            <a:off x="685800" y="307332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endshow"/>
          </p:cNvPr>
          <p:cNvSpPr/>
          <p:nvPr/>
        </p:nvSpPr>
        <p:spPr>
          <a:xfrm>
            <a:off x="4724280" y="556272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7" action="ppaction://hlinksldjump"/>
          </p:cNvPr>
          <p:cNvSpPr/>
          <p:nvPr/>
        </p:nvSpPr>
        <p:spPr>
          <a:xfrm>
            <a:off x="4724280" y="182880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期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8" action="ppaction://hlinksldjump"/>
          </p:cNvPr>
          <p:cNvSpPr/>
          <p:nvPr/>
        </p:nvSpPr>
        <p:spPr>
          <a:xfrm>
            <a:off x="4724280" y="245124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期时间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4724280" y="307332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备注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0" action="ppaction://hlinksldjump"/>
          </p:cNvPr>
          <p:cNvSpPr/>
          <p:nvPr/>
        </p:nvSpPr>
        <p:spPr>
          <a:xfrm>
            <a:off x="4724280" y="369576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用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1" action="ppaction://hlinksldjump"/>
          </p:cNvPr>
          <p:cNvSpPr/>
          <p:nvPr/>
        </p:nvSpPr>
        <p:spPr>
          <a:xfrm>
            <a:off x="4724280" y="431784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型数据（二进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362320" y="685800"/>
            <a:ext cx="43434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2.4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段、记录、数据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2952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据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系列相关数据的集合，由多条记录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字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数据表中存储、处理数据的基本元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记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数据表中一组字段的集合，同一个数据表中所有记录拥有相同的字段名，且同名字段在每个记录中的数据类型、数据长度都是相同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367080"/>
            <a:ext cx="43434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2.5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象、类和属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04172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对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Objec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对一事物属性及行为特征的描述，它将某一数据和使用该数据的一组基本操作或过程封装在一起，从而构成一个统一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lass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组对象的数据和行为特征的抽象描述，是具有共同属性、共同操作性质的对象的集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属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Attribut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用来描述对象特征的参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3 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运算符及表达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2514600" y="160020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值运算符及数值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2514600" y="219708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串运算符及字符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2514600" y="279396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期运算符及日期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2514600" y="339084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系运算符及关系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2514600" y="398952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逻辑运算符及逻辑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2514600" y="458640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与对象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endshow"/>
          </p:cNvPr>
          <p:cNvSpPr/>
          <p:nvPr/>
        </p:nvSpPr>
        <p:spPr>
          <a:xfrm>
            <a:off x="2514600" y="578160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2514600" y="518328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7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称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3505320"/>
            <a:ext cx="8153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值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圆括号（）、乘方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^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乘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除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模运算或取余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加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由数值运算符将数值型常量、变量、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等连接起来的式子，其结果为数值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运算符的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优先顺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括号、乘方、乘除与取模、加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+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0/(5+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*8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/>
          </p:cNvPr>
          <p:cNvSpPr/>
          <p:nvPr/>
        </p:nvSpPr>
        <p:spPr>
          <a:xfrm>
            <a:off x="1600200" y="26812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3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值运算符及数值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8398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对相同类型数据进行运算操作的符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用运算符将常量、变量、函数等数据连接起来的式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08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914400"/>
            <a:ext cx="8839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字符串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完全连接运算符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不完全连接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字符串包含运算符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精确比较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= =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完全连接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两个字符串的简单连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不完全连接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第一个字符串的尾部有空格时，将第一个字符串尾部的空格移到第二个字符串的尾部，然后，再将两个字符串连接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包含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检测左边的字符串是否被包含在右边的字符串中。如果包含，返回逻辑真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T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否则返回逻辑假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F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精确比较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只有当两边的字符串完全相等时，才返回逻辑真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T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宋体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字符串运算符将字符型常量、变量、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等连接起来的式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 ”+” bcd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 ”-” bcd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ok”$”bookstor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”$“this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at”= =”that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at  ”= =”tha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/>
          </p:cNvPr>
          <p:cNvSpPr/>
          <p:nvPr/>
        </p:nvSpPr>
        <p:spPr>
          <a:xfrm>
            <a:off x="1600200" y="304920"/>
            <a:ext cx="5943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3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符串运算符及字符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6095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日期型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加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+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减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日期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由日期运算符将日期型常量、变量、函数等数据连接起来的式子，其返回结果为日期型或者数值型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日期表达式的几种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形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+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+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-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-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01/01/1996}+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05/30/1998}-{05/20/1998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10/28/1995}-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/>
          </p:cNvPr>
          <p:cNvSpPr/>
          <p:nvPr/>
        </p:nvSpPr>
        <p:spPr>
          <a:xfrm>
            <a:off x="1600200" y="685800"/>
            <a:ext cx="5943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3.3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日期运算符及日期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关系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小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&lt;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大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&gt;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=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不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&lt;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=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小于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&lt;=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大于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&gt;=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关系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由关系运算符、数值表达式、字符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达式或日期表达式组合而成的式子，返回结果为逻辑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关系运算符的两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可以是字符表达式、数值表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式或者日期表达式，但两边的数据类型必须一致才能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比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”&gt;“B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”&lt;=“B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”=“B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”&lt;&gt;“B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+6 &gt;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1"/>
          </p:cNvPr>
          <p:cNvSpPr/>
          <p:nvPr/>
        </p:nvSpPr>
        <p:spPr>
          <a:xfrm>
            <a:off x="1600200" y="1157400"/>
            <a:ext cx="5943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3.4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关系运算符及关系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14400" y="5486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219320"/>
            <a:ext cx="8382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逻辑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逻辑非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逻辑与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AN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辑或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O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逻辑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由逻辑运算符、逻辑型常量、逻辑型内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、逻辑型数组、返回逻辑型数据的函数和关系表达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，结果为逻辑型常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运算规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进行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逻辑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算时，当参加运算的双方都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真值时，运算结果为真值，否则为假值；进行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逻辑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算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参加运算的双方都为假值时，运算结果为假值，否则为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；进行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逻辑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算时，运算结果为原来的相反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&gt;3.AND.8&l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”&gt;“C”.OR.“A”&lt;“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5&lt;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/>
          </p:cNvPr>
          <p:cNvSpPr/>
          <p:nvPr/>
        </p:nvSpPr>
        <p:spPr>
          <a:xfrm>
            <a:off x="1600200" y="685800"/>
            <a:ext cx="5943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3.5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逻辑运算符及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3429000"/>
            <a:ext cx="8153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名称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能代替字符型变量或数组元素的值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引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定义一个名称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只能以字母、汉字或下划线开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名称中只能使用字母、汉字、数字和下划线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运用名称表达式打开一个数据表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TORE “C:\VFP\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成绩”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(A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1"/>
          </p:cNvPr>
          <p:cNvSpPr/>
          <p:nvPr/>
        </p:nvSpPr>
        <p:spPr>
          <a:xfrm>
            <a:off x="2743200" y="2757600"/>
            <a:ext cx="40384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3.7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名称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2"/>
          </p:cNvPr>
          <p:cNvSpPr/>
          <p:nvPr/>
        </p:nvSpPr>
        <p:spPr>
          <a:xfrm>
            <a:off x="2781360" y="717480"/>
            <a:ext cx="39625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3.6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类与对象运算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3273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点操作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：主要用于确定对象与类的关系，以及属性、事件和方法与其对象的从属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作用域操作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：用于在子类中调用父类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83808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4 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495360" y="198108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处理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4838760" y="198108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值处理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533520" y="274320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期和时间处理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4876920" y="274320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转换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495360" y="354348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数据表有关的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4838760" y="354348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示位置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495360" y="432432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7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管理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495360" y="510552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9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系统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Y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4838760" y="432432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组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endshow"/>
          </p:cNvPr>
          <p:cNvSpPr/>
          <p:nvPr/>
        </p:nvSpPr>
        <p:spPr>
          <a:xfrm>
            <a:off x="4838760" y="510552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38080" y="1219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?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"/>
          </p:cNvPr>
          <p:cNvSpPr/>
          <p:nvPr/>
        </p:nvSpPr>
        <p:spPr>
          <a:xfrm>
            <a:off x="3657600" y="685800"/>
            <a:ext cx="167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条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163600"/>
            <a:ext cx="4267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1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符处理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2"/>
          </p:cNvPr>
          <p:cNvSpPr/>
          <p:nvPr/>
        </p:nvSpPr>
        <p:spPr>
          <a:xfrm>
            <a:off x="3200400" y="2971800"/>
            <a:ext cx="2438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宏代换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581280"/>
            <a:ext cx="739152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型内存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.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a=“bb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b= 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a,bb,&amp;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“&amp;b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中国的首都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=“567.8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356.08+&amp;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rId1"/>
          </p:cNvPr>
          <p:cNvSpPr/>
          <p:nvPr/>
        </p:nvSpPr>
        <p:spPr>
          <a:xfrm>
            <a:off x="2857680" y="623880"/>
            <a:ext cx="2895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37160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字符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指用各种文字字符表示的数据，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英文大小写字母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阿拉伯数字、各种汉字、专用符号和空格等，最大长度可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将阿拉伯数字定义为字符型数据时，它不具备数学上的数值含义，不能参加数学运算，如电话号码，邮编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/>
          </p:cNvPr>
          <p:cNvSpPr/>
          <p:nvPr/>
        </p:nvSpPr>
        <p:spPr>
          <a:xfrm>
            <a:off x="2743200" y="390060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值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4572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值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Numeric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可以进行算术运算的数据，包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阿拉伯数字、小数点与正负号，最大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。在内存中，数值型数据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一般将需要参加数学运算的数据定义成数值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/>
          </p:cNvPr>
          <p:cNvSpPr/>
          <p:nvPr/>
        </p:nvSpPr>
        <p:spPr>
          <a:xfrm>
            <a:off x="2209680" y="533520"/>
            <a:ext cx="419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字符串长度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990720"/>
            <a:ext cx="7696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LEN(“ABCDF”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LEN(“AB C D F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都经贸大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LEN(X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2"/>
          </p:cNvPr>
          <p:cNvSpPr/>
          <p:nvPr/>
        </p:nvSpPr>
        <p:spPr>
          <a:xfrm>
            <a:off x="2400480" y="3048120"/>
            <a:ext cx="396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空格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AC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49092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ACE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SPACE(3)+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都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3"/>
          </p:cNvPr>
          <p:cNvSpPr/>
          <p:nvPr/>
        </p:nvSpPr>
        <p:spPr>
          <a:xfrm>
            <a:off x="2400480" y="4495680"/>
            <a:ext cx="396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子字符串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029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BSTR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UBSTR(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城市经济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5,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/>
          </p:cNvPr>
          <p:cNvSpPr/>
          <p:nvPr/>
        </p:nvSpPr>
        <p:spPr>
          <a:xfrm>
            <a:off x="1828800" y="685800"/>
            <a:ext cx="5486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转换成小写字母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OW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29528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WER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LOWER(“ABDF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/>
          </p:cNvPr>
          <p:cNvSpPr/>
          <p:nvPr/>
        </p:nvSpPr>
        <p:spPr>
          <a:xfrm>
            <a:off x="1828800" y="2514600"/>
            <a:ext cx="5486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转换成大写字母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P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11004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PPER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UPPER(“abd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3"/>
          </p:cNvPr>
          <p:cNvSpPr/>
          <p:nvPr/>
        </p:nvSpPr>
        <p:spPr>
          <a:xfrm>
            <a:off x="1828800" y="4191120"/>
            <a:ext cx="5486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字符串尾部空格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I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4695840"/>
            <a:ext cx="6248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RIM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“I am a teacher.  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TRIM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/>
          </p:cNvPr>
          <p:cNvSpPr/>
          <p:nvPr/>
        </p:nvSpPr>
        <p:spPr>
          <a:xfrm>
            <a:off x="1866960" y="609480"/>
            <a:ext cx="5486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字符串左边空格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TRI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19052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TRIM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“  I am a teacher. 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LTRIM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/>
          </p:cNvPr>
          <p:cNvSpPr/>
          <p:nvPr/>
        </p:nvSpPr>
        <p:spPr>
          <a:xfrm>
            <a:off x="1866960" y="2895480"/>
            <a:ext cx="5486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字符串右边空格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I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3505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TRIM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3"/>
          </p:cNvPr>
          <p:cNvSpPr/>
          <p:nvPr/>
        </p:nvSpPr>
        <p:spPr>
          <a:xfrm>
            <a:off x="1371600" y="4191120"/>
            <a:ext cx="6629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字符串最左边和最右边的所有空格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756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LTRIM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“   I am a teacher.  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LLTRIM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rId1"/>
          </p:cNvPr>
          <p:cNvSpPr/>
          <p:nvPr/>
        </p:nvSpPr>
        <p:spPr>
          <a:xfrm>
            <a:off x="1752480" y="685800"/>
            <a:ext cx="5486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字符串左边部分字符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F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1430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FT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LEFT(“there,3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/>
          </p:cNvPr>
          <p:cNvSpPr/>
          <p:nvPr/>
        </p:nvSpPr>
        <p:spPr>
          <a:xfrm>
            <a:off x="1752480" y="2209680"/>
            <a:ext cx="5486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字符串右边部分字符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IGH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266688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IGHT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RIGHT(“what”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3"/>
          </p:cNvPr>
          <p:cNvSpPr/>
          <p:nvPr/>
        </p:nvSpPr>
        <p:spPr>
          <a:xfrm>
            <a:off x="1752480" y="3733920"/>
            <a:ext cx="5486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字符串位置测试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4267080"/>
            <a:ext cx="7315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T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T(“IS”,“THIS IS A BOO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T(“IS”,“THIS IS A BOOK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T(“A”,“THIS IS A BOOK”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T(“D”,“BOOK”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/>
          </p:cNvPr>
          <p:cNvSpPr/>
          <p:nvPr/>
        </p:nvSpPr>
        <p:spPr>
          <a:xfrm>
            <a:off x="213372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试表达式类型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YP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1636560"/>
            <a:ext cx="73911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函数返回值为字符型，各字符含义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符值  数据类型      字符值  数据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符型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备注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值型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象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期型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用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期时间型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货币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逻辑型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未定义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5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TYPE(“A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09680" y="414360"/>
            <a:ext cx="4419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值处理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1"/>
          </p:cNvPr>
          <p:cNvSpPr/>
          <p:nvPr/>
        </p:nvSpPr>
        <p:spPr>
          <a:xfrm>
            <a:off x="3009960" y="110016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整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557360"/>
            <a:ext cx="6553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INT(5.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INT(-8.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INT(10.98-2.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2"/>
          </p:cNvPr>
          <p:cNvSpPr/>
          <p:nvPr/>
        </p:nvSpPr>
        <p:spPr>
          <a:xfrm>
            <a:off x="2362320" y="3691080"/>
            <a:ext cx="380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舍五入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OU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4224240"/>
            <a:ext cx="7010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UND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ROUND(345.6799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ROUND(345.6799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ROUND(345.6799,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/>
          </p:cNvPr>
          <p:cNvSpPr/>
          <p:nvPr/>
        </p:nvSpPr>
        <p:spPr>
          <a:xfrm>
            <a:off x="2819520" y="60948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绝对值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1143000"/>
            <a:ext cx="792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S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BS(-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2"/>
          </p:cNvPr>
          <p:cNvSpPr/>
          <p:nvPr/>
        </p:nvSpPr>
        <p:spPr>
          <a:xfrm>
            <a:off x="2971800" y="2209680"/>
            <a:ext cx="304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大值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X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66688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MAX(10,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MAX(-10,-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/>
          </p:cNvPr>
          <p:cNvSpPr/>
          <p:nvPr/>
        </p:nvSpPr>
        <p:spPr>
          <a:xfrm>
            <a:off x="2971800" y="4267080"/>
            <a:ext cx="304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小值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472428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IN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MIN(10,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MIN(-10,-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rId1"/>
          </p:cNvPr>
          <p:cNvSpPr/>
          <p:nvPr/>
        </p:nvSpPr>
        <p:spPr>
          <a:xfrm>
            <a:off x="2971800" y="824040"/>
            <a:ext cx="3352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平方根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357200"/>
            <a:ext cx="678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QRT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QRT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2"/>
          </p:cNvPr>
          <p:cNvSpPr/>
          <p:nvPr/>
        </p:nvSpPr>
        <p:spPr>
          <a:xfrm>
            <a:off x="2895480" y="2590920"/>
            <a:ext cx="3505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自然对数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OG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11004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G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LOG(15.3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3"/>
          </p:cNvPr>
          <p:cNvSpPr/>
          <p:nvPr/>
        </p:nvSpPr>
        <p:spPr>
          <a:xfrm>
            <a:off x="3543480" y="4267080"/>
            <a:ext cx="2209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幂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4786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P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EXP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rId1"/>
          </p:cNvPr>
          <p:cNvSpPr/>
          <p:nvPr/>
        </p:nvSpPr>
        <p:spPr>
          <a:xfrm>
            <a:off x="2743200" y="685800"/>
            <a:ext cx="2895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余数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O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1219320"/>
            <a:ext cx="7543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函数返回值的符号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符号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MOD(10,3)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?MOD(10,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MOD(15,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MOD(-15,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2"/>
          </p:cNvPr>
          <p:cNvSpPr/>
          <p:nvPr/>
        </p:nvSpPr>
        <p:spPr>
          <a:xfrm>
            <a:off x="3276720" y="3979800"/>
            <a:ext cx="1904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 IIF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4513320"/>
            <a:ext cx="78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IF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IIF(X&gt;Y,50+X,100+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600200" y="609480"/>
            <a:ext cx="5943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日期和时间处理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1"/>
          </p:cNvPr>
          <p:cNvSpPr/>
          <p:nvPr/>
        </p:nvSpPr>
        <p:spPr>
          <a:xfrm>
            <a:off x="2438280" y="137160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当前日期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905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2"/>
          </p:cNvPr>
          <p:cNvSpPr/>
          <p:nvPr/>
        </p:nvSpPr>
        <p:spPr>
          <a:xfrm>
            <a:off x="2362320" y="2362320"/>
            <a:ext cx="4038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当前时间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M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2819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IME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3"/>
          </p:cNvPr>
          <p:cNvSpPr/>
          <p:nvPr/>
        </p:nvSpPr>
        <p:spPr>
          <a:xfrm>
            <a:off x="3276720" y="3352680"/>
            <a:ext cx="2361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8862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Y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时间型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4"/>
          </p:cNvPr>
          <p:cNvSpPr/>
          <p:nvPr/>
        </p:nvSpPr>
        <p:spPr>
          <a:xfrm>
            <a:off x="2971800" y="4343400"/>
            <a:ext cx="2971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份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ONT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4800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NTH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时间型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5"/>
          </p:cNvPr>
          <p:cNvSpPr/>
          <p:nvPr/>
        </p:nvSpPr>
        <p:spPr>
          <a:xfrm>
            <a:off x="3086280" y="5257800"/>
            <a:ext cx="2743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份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EA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5791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EAR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时间型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>
            <a:hlinkClick r:id="rId1"/>
          </p:cNvPr>
          <p:cNvSpPr/>
          <p:nvPr/>
        </p:nvSpPr>
        <p:spPr>
          <a:xfrm>
            <a:off x="2895480" y="623880"/>
            <a:ext cx="3124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整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Integer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不包含小数点部分的数值型数据，以二进制形式存储，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/>
          </p:cNvPr>
          <p:cNvSpPr/>
          <p:nvPr/>
        </p:nvSpPr>
        <p:spPr>
          <a:xfrm>
            <a:off x="2895480" y="2376360"/>
            <a:ext cx="3124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浮点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124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浮点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Floa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数值型数据的一种，在存储形式上采取浮点格式。它由尾数、阶数及字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3"/>
          </p:cNvPr>
          <p:cNvSpPr/>
          <p:nvPr/>
        </p:nvSpPr>
        <p:spPr>
          <a:xfrm>
            <a:off x="2895480" y="4205160"/>
            <a:ext cx="3124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精度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489276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双精度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Doub1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具有更高精度的数值型数据，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的存储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743200" y="533520"/>
            <a:ext cx="4267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4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转换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1"/>
          </p:cNvPr>
          <p:cNvSpPr/>
          <p:nvPr/>
        </p:nvSpPr>
        <p:spPr>
          <a:xfrm>
            <a:off x="2590920" y="1295280"/>
            <a:ext cx="4533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转换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SCI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码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SC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8162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给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最左边字符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的十进制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SC(“ABCD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2"/>
          </p:cNvPr>
          <p:cNvSpPr/>
          <p:nvPr/>
        </p:nvSpPr>
        <p:spPr>
          <a:xfrm>
            <a:off x="2362320" y="3886200"/>
            <a:ext cx="4991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ASCI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码值转换成字符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440532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R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的十进制数，给出对应的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CHR(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>
            <a:hlinkClick r:id="rId1"/>
          </p:cNvPr>
          <p:cNvSpPr/>
          <p:nvPr/>
        </p:nvSpPr>
        <p:spPr>
          <a:xfrm>
            <a:off x="1981080" y="457200"/>
            <a:ext cx="472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值型转换为字符型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116000"/>
            <a:ext cx="8153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&gt;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值型表达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出转换后的字符串长度，该长度包括小数点、负号。如果缺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输出结果将取固定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，且只取其整数部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出小数位数，决定转换后小数点右面的小数位数，默认位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2&g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的值大于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1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出值的数字位数时，在返回的字符串左边添加空格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2&g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的值小于小数点左边的数字位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将返回一串星号，表示数值溢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tr(95643.5136)               ?str(95643.5136,8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tr(95643.5136,8)            ?str(95643.5136,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44370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>
            <a:hlinkClick r:id="rId1"/>
          </p:cNvPr>
          <p:cNvSpPr/>
          <p:nvPr/>
        </p:nvSpPr>
        <p:spPr>
          <a:xfrm>
            <a:off x="1981080" y="609480"/>
            <a:ext cx="4800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型转换成数值型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1219320"/>
            <a:ext cx="71629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L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必须是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字形式的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它只能含有数字、正负号和小数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转换时，如果遇到非上述字符则停止。如果字符型表达式的第一个字符即非上述字符，则转换停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转换后的小数位数，隐含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，可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CIMAL TO 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去改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VAL(“8769.3421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VAL(“8769AB21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VAL(“AB8769.3421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>
            <a:hlinkClick r:id="rId1"/>
          </p:cNvPr>
          <p:cNvSpPr/>
          <p:nvPr/>
        </p:nvSpPr>
        <p:spPr>
          <a:xfrm>
            <a:off x="2133720" y="747720"/>
            <a:ext cx="4876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型转换成日期型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TO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13572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OD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必须是一个有效的日期格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CTOD(“09/23/01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2"/>
          </p:cNvPr>
          <p:cNvSpPr/>
          <p:nvPr/>
        </p:nvSpPr>
        <p:spPr>
          <a:xfrm>
            <a:off x="2133720" y="3033720"/>
            <a:ext cx="4876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期型转换成字符型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TOC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360036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TOC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时间型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1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,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项，则按照年月日的格式输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CTOD(“09/10/99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DTOC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DTOC(X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33720" y="609480"/>
            <a:ext cx="48765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5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数据表有关的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/>
          </p:cNvPr>
          <p:cNvSpPr/>
          <p:nvPr/>
        </p:nvSpPr>
        <p:spPr>
          <a:xfrm>
            <a:off x="2666880" y="129528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文件开始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905120"/>
            <a:ext cx="8381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F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检测当前或指定工作区中表的记录指针是否位于第一条记录之前，如果是，返回真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T.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否则返回假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F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B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 -1             ?B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2"/>
          </p:cNvPr>
          <p:cNvSpPr/>
          <p:nvPr/>
        </p:nvSpPr>
        <p:spPr>
          <a:xfrm>
            <a:off x="2666880" y="451008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文件结束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105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检测当前或指定工作区中表的记录指针是否位于最后一条记录之后，如果是，返回真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T.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否则返回假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F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>
            <a:hlinkClick r:id="rId1"/>
          </p:cNvPr>
          <p:cNvSpPr/>
          <p:nvPr/>
        </p:nvSpPr>
        <p:spPr>
          <a:xfrm>
            <a:off x="2666880" y="53352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文件结束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0666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E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BOTTOM              ?EOF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 1                          ?EOF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2"/>
          </p:cNvPr>
          <p:cNvSpPr/>
          <p:nvPr/>
        </p:nvSpPr>
        <p:spPr>
          <a:xfrm>
            <a:off x="2666880" y="230040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录号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28195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NO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给出当前或指定工作区中当前记录的记录号。函数返回值为数值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RECNO(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TO 4               ?RECNO()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3"/>
          </p:cNvPr>
          <p:cNvSpPr/>
          <p:nvPr/>
        </p:nvSpPr>
        <p:spPr>
          <a:xfrm>
            <a:off x="2666880" y="473868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试查询结果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53341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UND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用于测试查询表文件或索引文件的记录是否找到，如果找到，结果为逻辑真值，否则为逻辑假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>
            <a:hlinkClick r:id="rId1"/>
          </p:cNvPr>
          <p:cNvSpPr/>
          <p:nvPr/>
        </p:nvSpPr>
        <p:spPr>
          <a:xfrm>
            <a:off x="2590920" y="852480"/>
            <a:ext cx="396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试文件存在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5271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LE(&lt;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测试指定的文件是否存在，如果存在，返回逻辑真值，否则返回逻辑假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文件名应包括扩展名，文件名两端要用引号括起来，如果无引号，系统则默认为是变量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FILE(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2"/>
          </p:cNvPr>
          <p:cNvSpPr/>
          <p:nvPr/>
        </p:nvSpPr>
        <p:spPr>
          <a:xfrm>
            <a:off x="2590920" y="4129200"/>
            <a:ext cx="396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录删除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8322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D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如果当前或指定工作区中的当前记录被做过删除标记，则返回逻辑真值，否则返回逻辑假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>
            <a:hlinkClick r:id="rId1"/>
          </p:cNvPr>
          <p:cNvSpPr/>
          <p:nvPr/>
        </p:nvSpPr>
        <p:spPr>
          <a:xfrm>
            <a:off x="2590920" y="747720"/>
            <a:ext cx="396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表文件名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141912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F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返回当前或指定工作区中打开的数据表文件名，返回值为字符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没有打开的表文件，则返回空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DBF(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"/>
          </p:cNvPr>
          <p:cNvSpPr/>
          <p:nvPr/>
        </p:nvSpPr>
        <p:spPr>
          <a:xfrm>
            <a:off x="2590920" y="3871800"/>
            <a:ext cx="396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表文件别名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619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IAS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返回当前或指定工作区中打开的数据表文件的别名。返回值为字符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没有打开的表文件，则返回空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/>
          </p:cNvPr>
          <p:cNvSpPr/>
          <p:nvPr/>
        </p:nvSpPr>
        <p:spPr>
          <a:xfrm>
            <a:off x="2590920" y="685800"/>
            <a:ext cx="396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工作区号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3572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宋体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([0/1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宋体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返回当前工作区号或者返回未使用的工作区的最大编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宋体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返回当前工作区号；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返回未使用工作区的最大编号；参数“别名”指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返回表文件别名所在的工作区编号。函数返回值为数值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2"/>
          </p:cNvPr>
          <p:cNvSpPr/>
          <p:nvPr/>
        </p:nvSpPr>
        <p:spPr>
          <a:xfrm>
            <a:off x="2209680" y="4114800"/>
            <a:ext cx="472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试表文件是否打开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47102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D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判断指定的工作区中是否有表文件打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函数返回值为逻辑型。如果在指定的工作区中有表文件打开，返回真值，否则返回假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38280" y="1128600"/>
            <a:ext cx="41148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6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位置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"/>
          </p:cNvPr>
          <p:cNvSpPr/>
          <p:nvPr/>
        </p:nvSpPr>
        <p:spPr>
          <a:xfrm>
            <a:off x="2705040" y="2133720"/>
            <a:ext cx="358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标列坐标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2"/>
          </p:cNvPr>
          <p:cNvSpPr/>
          <p:nvPr/>
        </p:nvSpPr>
        <p:spPr>
          <a:xfrm>
            <a:off x="2705040" y="4100400"/>
            <a:ext cx="358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标行坐标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OW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8051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给出光标当前列的位置，函数返回值为数值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471024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W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给出光标当前行的位置，函数返回值为数值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>
            <a:hlinkClick r:id="rId1"/>
          </p:cNvPr>
          <p:cNvSpPr/>
          <p:nvPr/>
        </p:nvSpPr>
        <p:spPr>
          <a:xfrm>
            <a:off x="2819520" y="62388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货币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货币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urrency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装入表示货币量的数据，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/>
          </p:cNvPr>
          <p:cNvSpPr/>
          <p:nvPr/>
        </p:nvSpPr>
        <p:spPr>
          <a:xfrm>
            <a:off x="2819520" y="230040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逻辑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954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逻辑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g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用来进行各种逻辑判断的数据，只有两个值，即真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假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F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长度固定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，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95288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日期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Dat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用来专门表示日期的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储格式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YYYMMDD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共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"/>
          </p:cNvPr>
          <p:cNvSpPr/>
          <p:nvPr/>
        </p:nvSpPr>
        <p:spPr>
          <a:xfrm>
            <a:off x="2819520" y="420516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期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438280" y="944640"/>
            <a:ext cx="41148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7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件管理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1"/>
          </p:cNvPr>
          <p:cNvSpPr/>
          <p:nvPr/>
        </p:nvSpPr>
        <p:spPr>
          <a:xfrm>
            <a:off x="2705040" y="1803240"/>
            <a:ext cx="358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回当前目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56536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URDIR(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返回当前目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返回值为字符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驱动器，函数将返回该驱动器的当前目录或文件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省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返回缺省驱动器的当前目录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的驱动器不存在，返回空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CURDI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/>
          </p:cNvPr>
          <p:cNvSpPr/>
          <p:nvPr/>
        </p:nvSpPr>
        <p:spPr>
          <a:xfrm>
            <a:off x="2705040" y="762120"/>
            <a:ext cx="358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试指定目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952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ECTORY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录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在磁盘上发现了指定目录，返回真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T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录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出指定要定位的目录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在指定的目录中没有给出绝对路径，则相对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缺省目录查找该目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2"/>
          </p:cNvPr>
          <p:cNvSpPr/>
          <p:nvPr/>
        </p:nvSpPr>
        <p:spPr>
          <a:xfrm>
            <a:off x="2590920" y="3720960"/>
            <a:ext cx="380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盘可用空间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43308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KSPACE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磁盘驱动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返回缺省驱动器或指定的磁盘驱动器的可用字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该函数返回值为数值型。在使用时，〈磁盘驱动器名〉要加上字符串定界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>
            <a:hlinkClick r:id="rId1"/>
          </p:cNvPr>
          <p:cNvSpPr/>
          <p:nvPr/>
        </p:nvSpPr>
        <p:spPr>
          <a:xfrm>
            <a:off x="2705040" y="457200"/>
            <a:ext cx="358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试文件大小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990720"/>
            <a:ext cx="8305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IZE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/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以字节为单位返回指定字段或文件的大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值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返回字段大小还是文件大小，是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COMPATIB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当前设置决定的。如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SET COMPATIBLE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设置为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OFF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或缺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返回某字段的大小；如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SET COMPATIBLE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设置为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返回文件的大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给出参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返回指定字段的大小，如果其后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工作区号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&gt;/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表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返回指定表文件中字段的大小，否则返回当前打开的数据表文件中字段的大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给出参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返回该文件的大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COMPATIBLE OFF        CLOSE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FSIZE(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FSIZE(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/>
          </p:cNvPr>
          <p:cNvSpPr/>
          <p:nvPr/>
        </p:nvSpPr>
        <p:spPr>
          <a:xfrm>
            <a:off x="2705040" y="996840"/>
            <a:ext cx="358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目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75896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DIR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显示“选择目录”对话框，可以从中选择目录；或者显示“选择文件夹”对话框，可以从中选择文件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字符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在对话框中初始显示的目录或者对话框。如果没有指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对话框打开时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缺省目录或者缺省对话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文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对话框中目录列表或者文件夹列表的标题文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getdir("c:\program files",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在下面选择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/>
          </p:cNvPr>
          <p:cNvSpPr/>
          <p:nvPr/>
        </p:nvSpPr>
        <p:spPr>
          <a:xfrm>
            <a:off x="2705040" y="685800"/>
            <a:ext cx="358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文件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33344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FILE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扩展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按钮标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钮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显示“打开文件”对话框，返回用户选择的文件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字符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文件扩展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没有选中菜单项“所有文件”时在滚动列表中显示的文件扩展名。如果作为原意字符传递数据，要将其加上引号，不要在扩展名前加上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“打开”对话框中目录或文件夹列表的文本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打开按钮标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钮指定标题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按钮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在“打开”对话框中显示的按钮数目和类型。可以分别取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>
            <a:hlinkClick r:id="rId1"/>
          </p:cNvPr>
          <p:cNvSpPr/>
          <p:nvPr/>
        </p:nvSpPr>
        <p:spPr>
          <a:xfrm>
            <a:off x="2705040" y="996840"/>
            <a:ext cx="3478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另存为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1758960"/>
            <a:ext cx="7696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FILE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扩展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激活“另存为”对话框，返回指定的文件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字符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显示在“另存为”对话框上的定制文本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显示在文本框中缺省文件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文件扩展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要定位的文件的扩展名。文件扩展名可以包括多个扩展名，各扩展名之间用分号分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819520" y="762120"/>
            <a:ext cx="35049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8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组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1"/>
          </p:cNvPr>
          <p:cNvSpPr/>
          <p:nvPr/>
        </p:nvSpPr>
        <p:spPr>
          <a:xfrm>
            <a:off x="2846520" y="1590840"/>
            <a:ext cx="3477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拷贝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2200320"/>
            <a:ext cx="7924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OPY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源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标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源数组起始元素序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制元素个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标数组的起始元素序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将源数组中指定的元素复制到目标数组中。函数返回值是一个整数，说明已经复制了的元素个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此函数既适用于一维数组，也适用于二维数组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没有选择项，整个数组复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源数组起始元素序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标数组的起始元素序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缺省值都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/>
          </p:cNvPr>
          <p:cNvSpPr/>
          <p:nvPr/>
        </p:nvSpPr>
        <p:spPr>
          <a:xfrm>
            <a:off x="2846520" y="76320"/>
            <a:ext cx="3477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内容排序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53352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ORT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排序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排序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值表达式，如果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缺省，按升序排序；如果大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按降序排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值型，排序成功返回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否则返回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于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一维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出参加排序的起始元素序号，缺省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出参加排序的元素个数，缺省表示从指定的起始元素到最后一个元素均参加排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于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二维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排序以行为单位，允许对所有行或某些行进行排序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出参加排序的起始元素序号，该序号所在的行是参加排序的起始行，按照它所在列的数值进行排序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出参加排序的行数，缺省表示从指定的起始行到最后一行均参加排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对一维数组进行排序时，所有的数组元素必须具有</a:t>
            </a:r>
            <a:r>
              <a:rPr b="0" lang="zh-CN" sz="2400" spc="-1" strike="noStrike">
                <a:solidFill>
                  <a:srgbClr val="ff00ff"/>
                </a:solidFill>
                <a:latin typeface="宋体"/>
              </a:rPr>
              <a:t>相同类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；对于二维数组，进行排序的那一列必须具有相同的数据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>
            <a:hlinkClick r:id="rId1"/>
          </p:cNvPr>
          <p:cNvSpPr/>
          <p:nvPr/>
        </p:nvSpPr>
        <p:spPr>
          <a:xfrm>
            <a:off x="2846520" y="609480"/>
            <a:ext cx="3477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元素删除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133344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EL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元素编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2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从一维数组中删除一个元素，或者从二维数组中删除一行或者一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值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要删除元素的数组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组元素编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要删除的元素、行或者列的编号。要从数组中删除某一列，必须在函数中包含可选参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删除数组的元素或者删除数组的某一行或某一列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不改变数组的大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位于被删除元素、行、列之后的元素、行、列前移填补到已删除的位置，数组最后的元素或者最后行、最后列被置为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F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删除成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该函数返回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rId1"/>
          </p:cNvPr>
          <p:cNvSpPr/>
          <p:nvPr/>
        </p:nvSpPr>
        <p:spPr>
          <a:xfrm>
            <a:off x="2846520" y="374760"/>
            <a:ext cx="3477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插入元素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98424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INS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元素编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2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一维数组中插入一个元素，或者在二维数组中插入一行元素或者插入一列元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值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要插入元素的数组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组元素编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插入新元素、新行或者新列的位置，在一维数组中插入的新元素位置在数组元素编号指定的元素之前，在二维数组中插入的新行位置在数组元素编号指定的行之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参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在二维数组中插入一列，其位置在数组元素编号指定的列之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数组中插入元素、行或者列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不改变数组的大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数组后续的元素、行或者列被逐步向后移，最后的元素、行或者列被丢弃，新插入的元素、行或者列的值被初始化成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F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如果</a:t>
            </a:r>
            <a:r>
              <a:rPr b="0" lang="zh-CN" sz="2400" spc="-1" strike="noStrike">
                <a:solidFill>
                  <a:srgbClr val="ff00ff"/>
                </a:solidFill>
                <a:latin typeface="宋体"/>
              </a:rPr>
              <a:t>插入成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该函数返回值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/>
          </p:cNvPr>
          <p:cNvSpPr/>
          <p:nvPr/>
        </p:nvSpPr>
        <p:spPr>
          <a:xfrm>
            <a:off x="2819520" y="776160"/>
            <a:ext cx="3352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期时间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600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日期时间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Date Tim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描述日期和时间的数据。其字符存储格式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YYYMMDDHHMMSS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保存在两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的整数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/>
          </p:cNvPr>
          <p:cNvSpPr/>
          <p:nvPr/>
        </p:nvSpPr>
        <p:spPr>
          <a:xfrm>
            <a:off x="2819520" y="3276720"/>
            <a:ext cx="3352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备注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41911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备注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em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于存放数据较长的字符型数据类型，固定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的内存空间，用来存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部指针，实际的数据存放在与数据表文件同名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F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，并且所存放的内容只受磁盘空间的限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/>
          </p:cNvPr>
          <p:cNvSpPr/>
          <p:nvPr/>
        </p:nvSpPr>
        <p:spPr>
          <a:xfrm>
            <a:off x="2846520" y="609480"/>
            <a:ext cx="3477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长度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1317600"/>
            <a:ext cx="807696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EN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测试类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返回数组中元素的个数、行数或者列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值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要测试长度的数组，如果只包含数组名参数，该函数返回数组中元素的个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测试类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该函数返回的是元素个数还是行数、列数，其可用值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数组中元素的个数，如果省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测试类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等同于指定其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数组中的行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数组中的列数，如果是一维数组，返回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>
            <a:hlinkClick r:id="rId1"/>
          </p:cNvPr>
          <p:cNvSpPr/>
          <p:nvPr/>
        </p:nvSpPr>
        <p:spPr>
          <a:xfrm>
            <a:off x="2846520" y="457200"/>
            <a:ext cx="3477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元素查找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9907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AN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元素编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素查找个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数组中查找包含与指定表达式类型、数据都相同的元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值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要查找的数组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查找用的基本表达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开始元素编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查找开始的元素号，指定的元素也参加查找，如果省略该参数，则查找整个数组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元素查找个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参加查找的元素个数，如果省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元素编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素查找个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查找自第一个元素开始，一直到最后一个元素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查找到匹配的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函数返回匹配元素的元素号，如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没有查找到匹配的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函数返回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819520" y="563400"/>
            <a:ext cx="35049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9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系统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1295280"/>
            <a:ext cx="784836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YS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系统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YS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随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的不同，系统将完成不同的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结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字符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YS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机器名和网络机器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YS(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当前缺省的驱动器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YS(17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当前正在使用的中央处理器的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YS(10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当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V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YS(10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当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YS(2018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最近的错误返回出错的原因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143000" y="114300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5 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命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2400480" y="228600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5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令组成和书写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2400480" y="323856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5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用的环境设置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endshow"/>
          </p:cNvPr>
          <p:cNvSpPr/>
          <p:nvPr/>
        </p:nvSpPr>
        <p:spPr>
          <a:xfrm>
            <a:off x="2400480" y="419112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62320" y="792000"/>
            <a:ext cx="46479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5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命令组成和书写规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2133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格式：命令动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饰子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1523880"/>
            <a:ext cx="2133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2666880"/>
            <a:ext cx="2133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遵循的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32767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必须以命令动词开头，其后子句的顺序可以任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动词、修饰和限制子句之间要用空格分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动词可以缩写为前四个字符，并且命令动词中的英文字母不区分大小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变量名、字段名和文件名应避免使用保留字，以免产生错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本书所给出的命令格式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可选项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必选项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在其左右参量中任选一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133720" y="685800"/>
            <a:ext cx="4800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5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常用的环境设置命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38560" y="152388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SET DAT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2286000"/>
            <a:ext cx="80769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ATE TO AMERICAN / ANSI / BRITISH / USA / MDY/DMY/Y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各种设置的结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MERICA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MM/DD/Y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S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YY.MM.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ITI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DD/MM/Y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MM-DD-Y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DY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M/DD/Y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M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DD/MM/Y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MD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Y/MM/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971800" y="53352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SET CENTURY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106668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CENTURY ON/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确定是否显示日期表达式中的世纪部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在日期格式中指定年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指定日期格式中年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62240" y="2743200"/>
            <a:ext cx="2819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SET HOUR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326232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HOURS TO [12/2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IM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不受此命令的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71800" y="434340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SET SECOND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48769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SECONDS ON/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决定显示日期时间值时，是否显示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默认）指定在日期时间值中显示秒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不显示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971800" y="38088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SET DEVIC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8380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VICE TO SCREEN/TO PRINTER/TO F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@…S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输出发送到屏幕、打印机或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SCRE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输出发送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主窗口或活动的自定义窗口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PR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输出发送到打印机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F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输出发送到文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320040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SET DEFAUL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3657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FAULT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盘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定缺省的驱动器和目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457200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SET TALK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50292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/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确定是否显示命令的执行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允许将命令的结果发送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主窗口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禁止将结果输出到屏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895480" y="228600"/>
            <a:ext cx="33530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 SET DECIMAL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6858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CIMALS TO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定数值型表达式中显示的十进制小数位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命令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显示的小数位数，默认值为两位小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95480" y="2133720"/>
            <a:ext cx="3353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 SET SAFETY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2590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SAFETY ON/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改写文件时，是否显示对话框确认改写有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默认）指定在改写已存在的文件之前显示对话框，以选择是否改写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已存在的文件改写之前不显示对话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4343400"/>
            <a:ext cx="33530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 SET DELETE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4800600"/>
            <a:ext cx="86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LETED ON/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使用某些命令时，指定是否对加了删除标记的记录进行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忽略做了删除标记的记录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默认）则不忽略做了删除标记的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1"/>
          </p:cNvPr>
          <p:cNvSpPr/>
          <p:nvPr/>
        </p:nvSpPr>
        <p:spPr>
          <a:xfrm>
            <a:off x="2209680" y="685800"/>
            <a:ext cx="4572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用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523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通用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于存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bject Linking and Embedd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象，只能用于数据表中字段的定义。该字段包含了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的引用，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的具体内容可以是一个电子表格、文档、图片等。通用型数据长度固定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，实际数据长度仅受磁盘空间的限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672000"/>
            <a:ext cx="4496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型数据（二进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815000"/>
            <a:ext cx="4496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备注型数据（二进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68580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2 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存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2819520" y="1743120"/>
            <a:ext cx="36576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2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2819520" y="2476440"/>
            <a:ext cx="36576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2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2819520" y="4676760"/>
            <a:ext cx="36576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2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、类和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2819520" y="3209760"/>
            <a:ext cx="36576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2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3943440"/>
            <a:ext cx="36576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2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段、记录、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endshow"/>
          </p:cNvPr>
          <p:cNvSpPr/>
          <p:nvPr/>
        </p:nvSpPr>
        <p:spPr>
          <a:xfrm>
            <a:off x="2819520" y="5410080"/>
            <a:ext cx="36576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160020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字符型常量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定界符（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单引号、双引号和方括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括起来的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e” ‘568’ [book] “‘book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中文意思是‘书’。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值型常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38,-10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浮点型常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.05E+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日期型常量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一个确切的日期，用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大括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定界符，默认格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mm/dd/yy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严格的日期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^YYYY-MM-D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05/23/99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^2001-08-16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逻辑型常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t. .T. .f. .F. .Y. .N. .y. .n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日期时间型常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05/16/99 12:00:00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/>
          </p:cNvPr>
          <p:cNvSpPr/>
          <p:nvPr/>
        </p:nvSpPr>
        <p:spPr>
          <a:xfrm>
            <a:off x="2514600" y="685800"/>
            <a:ext cx="38862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2.1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常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3T07:19:35Z</dcterms:created>
  <dc:creator>yao</dc:creator>
  <dc:description/>
  <dc:language>en-US</dc:language>
  <cp:lastModifiedBy>yao</cp:lastModifiedBy>
  <dcterms:modified xsi:type="dcterms:W3CDTF">2001-10-14T17:45:02Z</dcterms:modified>
  <cp:revision>59</cp:revision>
  <dc:subject/>
  <dc:title>没有幻灯片标题</dc:title>
</cp:coreProperties>
</file>