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F33-094A-4205-A0B5-22AE5F28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367-D47F-4A0A-8880-6F080A6B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E25D-8413-48FD-99F1-BD5B01AF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16F-AB7E-4381-96D0-B6F30A79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655-43DA-4181-816B-EC594985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D7E-F30F-4531-A14E-5DFEBED8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F82-0F17-4FFD-B043-1F701FC1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569-0BCF-4227-A186-7F74564A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04A-4AFC-4672-9BFE-970209E0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9CC1-FA76-4367-8A76-F0EB4C38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881-8BE8-4D5C-9DDC-9E9058F8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B32-1A03-47C3-80A8-D1DEE330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704C-75CC-4950-90DF-680EE449D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制菜单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144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新建一个菜单，可以通过定制已有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或者开发自己的菜单系统来创建。如果要从已有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开始创建菜单，则可以使用“快速菜单”功能。具体操作步骤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“项目管理器”中的“其他”选项卡，选定“菜单”项，然后用鼠标单击“新建”按钮，在随后出现的“新建菜单”窗口中用鼠标单击“菜单”按钮，随后将会出现“菜单设计器”窗口，同时在系统菜单中将会出现“菜单”选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系统菜单的“菜单”选项中，选择“快速菜单”命令，在“菜单设计器”中将会包含关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菜单的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菜单设计器”中可通过添加或更改菜单项定制菜单系统，同时，如果用鼠标拖动最前面的移动钮，还可以改变菜单栏上各菜单的位置。此外，如果需要创建“帮助”菜单，最好将它安排在菜单栏的最后，这样用户能够很快找到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38:44Z</dcterms:created>
  <dc:creator>pcn</dc:creator>
  <dc:description/>
  <dc:language>en-US</dc:language>
  <cp:lastModifiedBy>pcn</cp:lastModifiedBy>
  <dcterms:modified xsi:type="dcterms:W3CDTF">2002-01-06T21:03:06Z</dcterms:modified>
  <cp:revision>2</cp:revision>
  <dc:subject/>
  <dc:title>没有幻灯片标题</dc:title>
</cp:coreProperties>
</file>