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F49-402E-47F3-9434-E4830B39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077-3074-46EA-9E50-CF07F6D5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A80-BAE1-4424-AF03-F69691CE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890-2345-4FCB-A735-1849C21A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2E3-E5D3-4C9D-992C-42900CCC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020-5C6A-4602-9004-14B45D50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AE7-2662-4EC5-8042-CAC0ABFB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032-C45F-4CBF-8154-7F8149EA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6B5-BF97-4480-9DCC-F5459034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AFD-03DC-4924-A483-B0709C9D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82E-25FD-4948-A875-9C33E696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E42-6600-4010-9959-311B4CF2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4DA3-963B-47D4-A385-2AD451F4A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30120"/>
            <a:ext cx="7848360" cy="36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0.2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每个菜单项，都可以创建包含其他菜单项的子菜单。如果需要在菜单项中添加子菜单，可进行如下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菜单设计器的“菜单名称”栏中，选择要添加子菜单的菜单项；在“结果”框中，选择“子菜单”，此时“创建”按钮会出现在列表的右侧。如果已经有了子菜单，则此处出现的是“编辑”按钮，用鼠标单击“创建”或“编辑”按钮。然后在“菜单名称”栏中，键入新建的各子菜单项的名称。在子菜单建立完成后，如果还需要建立其他的菜单项，在“菜单级”的下拉列表中选择“菜单栏”选项，则可以继续建立其他的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0.2.5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编程方式添加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既可以使用“菜单设计器”创建菜单和菜单项，也可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命令来创建。例如，创建菜单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PA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创建子菜单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POPU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而在子菜单上创建菜单项则可以使用一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BA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9:08:15Z</dcterms:created>
  <dc:creator>pcn</dc:creator>
  <dc:description/>
  <dc:language>en-US</dc:language>
  <cp:lastModifiedBy>pcn</cp:lastModifiedBy>
  <dcterms:modified xsi:type="dcterms:W3CDTF">2002-01-06T21:03:26Z</dcterms:modified>
  <cp:revision>2</cp:revision>
  <dc:subject/>
  <dc:title>没有幻灯片标题</dc:title>
</cp:coreProperties>
</file>