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09A-4F04-4028-9406-C72C03BB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212-3357-41F2-A186-D1B615D4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5EF-ABBB-467D-8BA2-C2B5AF0D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86B-962E-4A6E-9505-667C5710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5A3-CEFD-44A9-AF88-3D4BFB09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B7B-2E56-4882-A582-201154E3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E91-B06D-4C66-9823-F2BEFB1F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F7F-178E-4C70-9CA8-84935A8C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02E-9F80-42EF-B814-B6424837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EEC-572F-4A20-984B-A216609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1A6-2CD6-427C-B7E9-3B86AF20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993-7307-4D6C-B0F4-393D915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207F-F19D-45CF-881D-A27338D72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控件或对象上单击右键时，将会显示快捷菜单，以便快速展示当前对象可用的所有功能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创建快捷菜单的功能，并可将这些菜单附加在控件中。例如，可创建包含“剪切”、“复制”和“粘贴”命令的快捷菜单，当用户在表格控件所包含的数据上单击右键时，将出现此快捷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快捷菜单的具体操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选项，并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随后出现的“新建菜单”窗口中用鼠标单击“快捷菜单”按钮，将会出现“快捷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入“快捷菜单设计器”后，添加菜单项的过程与创建菜单完全相同。即在“菜单名称”栏中，选择相应的菜单标题或菜单项；单击“选项”栏中的按钮，出现“提示选项”对话框，在“键标签”框中，按下一组合键，可创建快捷键。快捷键一般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与另一个键相组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42:25Z</dcterms:created>
  <dc:creator>pcn</dc:creator>
  <dc:description/>
  <dc:language>en-US</dc:language>
  <cp:lastModifiedBy>pcn</cp:lastModifiedBy>
  <dcterms:modified xsi:type="dcterms:W3CDTF">2002-01-06T21:04:06Z</dcterms:modified>
  <cp:revision>2</cp:revision>
  <dc:subject/>
  <dc:title>没有幻灯片标题</dc:title>
</cp:coreProperties>
</file>