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508-10D7-40EF-A32C-6B58BCD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F8A-3357-4BA7-A84C-F6647C77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1ED-42AE-4B7D-8BFD-2209A146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425-6FF7-4AF8-8B31-F9FF7EEC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E71-7C6E-46BC-86D6-631A165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4D7-CE16-465A-B004-D32A9A9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333-4E1F-4E50-AE32-4C766598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2FE-AAA8-438A-BD8E-781C522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307-600B-43B8-A8FC-A624047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C9A-6C5E-4E0A-B618-056A18D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408-4DFB-4B89-8307-BF4B53FC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5C4-77C1-46A3-868C-93B5B26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70F7-5514-4062-86AB-DB9B4AF26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53Z</dcterms:created>
  <dc:creator>pcn</dc:creator>
  <dc:description/>
  <dc:language>en-US</dc:language>
  <cp:lastModifiedBy>pcn</cp:lastModifiedBy>
  <dcterms:modified xsi:type="dcterms:W3CDTF">2002-01-06T21:05:48Z</dcterms:modified>
  <cp:revision>2</cp:revision>
  <dc:subject/>
  <dc:title>没有幻灯片标题</dc:title>
</cp:coreProperties>
</file>