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8F2-4FA4-4D70-8049-A77C8258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568-9C5E-4AB0-A32A-67CE60EE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5B02-00A8-4B2C-A793-53A4CAB6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F4B7-CE5A-43EE-B0A7-74C44AF3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BF6-6FC0-4E24-858A-81BC449D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142-7112-40EB-99BD-FCCE65BC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725-D269-45B1-AEF5-76017CD7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148-94DF-4DAD-BC10-8A186A09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0EC-9E62-4216-818D-0C1EFF41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031-1D80-479E-B783-204979EA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416-30BE-4E2E-8654-CC0B96A8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B708-5560-45ED-8269-8FA3728E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17ED-8C56-4A0A-A93E-DA698D58D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对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523880"/>
          <a:ext cx="777240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7724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6T09:04:59Z</dcterms:created>
  <dc:creator>pcn</dc:creator>
  <dc:description/>
  <dc:language>en-US</dc:language>
  <cp:lastModifiedBy>pcn</cp:lastModifiedBy>
  <dcterms:modified xsi:type="dcterms:W3CDTF">2002-01-06T20:36:17Z</dcterms:modified>
  <cp:revision>1</cp:revision>
  <dc:subject/>
  <dc:title>对象</dc:title>
</cp:coreProperties>
</file>