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362-4ACE-4635-BABE-C8FA2385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0BD-B9F0-4AA7-8DD6-057C1DD5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DAD-10DF-45B5-802D-0CA68DDA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A34-F8F4-4804-B65D-588BF033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8CC-72B2-463A-B8FE-EBDD012F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E43-A634-4C47-B2EF-CD891224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BDA-66CA-428D-A3CF-15BC6583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92A-C8DE-4149-B1F5-F2EAAF6E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A81-36FA-403F-8CFA-8CD44D5E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B68-2435-4A40-AFA5-04E73FF0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A7C-B9A6-4D8A-AD2B-A2AAAA91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618-FF9E-41B3-AB98-81BC0F5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9DB8-D157-44D6-BAF3-DC027B429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.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数据环境设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2.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打开“数据环境设计器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创建表单或已有打开表单的情况下，可以从“显示”菜单中，也可在表单快捷菜单中 选择“数据环境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2.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数据信息与数据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7:33:20Z</dcterms:created>
  <dc:creator>pcn</dc:creator>
  <dc:description/>
  <dc:language>en-US</dc:language>
  <cp:lastModifiedBy>pcn</cp:lastModifiedBy>
  <dcterms:modified xsi:type="dcterms:W3CDTF">2002-01-01T17:41:46Z</dcterms:modified>
  <cp:revision>1</cp:revision>
  <dc:subject/>
  <dc:title>8.2 数据环境设置</dc:title>
</cp:coreProperties>
</file>