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A7D-66E5-4785-A54A-E6B9EB7A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502-7539-4309-9E37-93478911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FB0-CB62-4963-A4A4-A86C6636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D12-1C6A-485B-9FFB-2BF9B966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94E-C186-4121-8E64-4E089CD3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FEC-F8A5-43DD-AC66-EE620710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D8D-1B4F-45F9-9572-6ED937BA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0B0-9D2D-43DB-8338-8CD10AAD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C2A-190D-4031-8E10-CEB20F5C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9B1-9C8A-4F30-A196-76BDDF1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A8A-E687-4F68-883A-3242713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488-8216-4D9B-9387-93C78D54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9D87-2EA6-40FB-AF1D-5CB9A0965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858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表单设计器创建表单、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71600"/>
            <a:ext cx="81532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控件是指可以用于交互式操作界面的图形对象。表单中的控件是用以显示数据、执行操作或使表单更易阅读的图形对象。可以输入输出数据、完成具有某种特定功能的操作，构建用户和计算机之间相互沟通的操作界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单中有两类控件：与表中数据绑定的控件和不与数据绑定的控件。当使用绑定型控件时，所输入或所选择的值将保存在数据源中（数据源可以是表中的字段、临时表的字段或变量）。要使控件在表单中正确运行，可以设置控件的有关属性（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rol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把控件与数据结为一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好保持控件使用方法特征的一致性，给用户一个明确的提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6:36:17Z</dcterms:created>
  <dc:creator>pcn</dc:creator>
  <dc:description/>
  <dc:language>en-US</dc:language>
  <cp:lastModifiedBy>pcn</cp:lastModifiedBy>
  <dcterms:modified xsi:type="dcterms:W3CDTF">2002-01-06T20:49:36Z</dcterms:modified>
  <cp:revision>2</cp:revision>
  <dc:subject/>
  <dc:title>没有幻灯片标题</dc:title>
</cp:coreProperties>
</file>