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B79-70B0-43AF-910A-FC3C238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083-E686-4E0D-BFF3-4766FD5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A4B-946B-499C-A114-121AB1A4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E59-6DC8-4707-BD22-37B13175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1B8-6888-4DAF-BC17-09A4580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718-7847-4DA5-801B-31B5CF1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83A-7B72-4204-807C-3ACE69B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E10-B76A-4831-B910-17EEFA84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BDE-E26D-4168-845E-16062A0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7BA-0AB2-4C0F-804C-A32F2E9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F39-482E-4A80-90BB-CAFDFCC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2A3-2B33-45AC-926B-C227D75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FF80-74CA-4CF6-86F8-4C655F75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交互式操作提供了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控件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表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1:30:33Z</dcterms:created>
  <dc:creator>pcn</dc:creator>
  <dc:description/>
  <dc:language>en-US</dc:language>
  <cp:lastModifiedBy>pcn</cp:lastModifiedBy>
  <dcterms:modified xsi:type="dcterms:W3CDTF">2002-01-06T20:33:44Z</dcterms:modified>
  <cp:revision>1</cp:revision>
  <dc:subject/>
  <dc:title>控件</dc:title>
</cp:coreProperties>
</file>