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5F0-4DD9-406C-ACBF-528D03FE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9EB-FBC7-4FFA-9C07-2F35D727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912-C5FB-4FA0-9ADC-24D6B8F3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18C-3370-453B-96AD-B0212A59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F56-A41D-4E49-926E-29697FDD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AB0-6592-4C1A-A4F0-D89B7BBB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C20-5AE5-4670-87A6-EA413C4F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F2C-B1DE-4E48-9280-A56E33AF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751-49C8-4166-BBF4-14608658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319-715C-42D9-977E-B0D5716A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B3D-8DC4-4F88-B776-F15E69D8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7BC-32CF-4F62-A5A6-DEAAC3BA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1A03-D527-4D70-9B43-C40622D39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常用属性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54280" y="838080"/>
          <a:ext cx="563400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838080"/>
                    <a:ext cx="563400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1:42:22Z</dcterms:created>
  <dc:creator>pcn</dc:creator>
  <dc:description/>
  <dc:language>en-US</dc:language>
  <cp:lastModifiedBy>pcn</cp:lastModifiedBy>
  <dcterms:modified xsi:type="dcterms:W3CDTF">2002-01-06T20:39:47Z</dcterms:modified>
  <cp:revision>2</cp:revision>
  <dc:subject/>
  <dc:title>常用属性表</dc:title>
</cp:coreProperties>
</file>