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D3D5-8E89-4E01-A093-0B3F8E49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F99-555D-41F1-9DB1-9E5C49B4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DBE8-9CBF-42E6-A294-83067A92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652-FE2A-4B05-A7BE-9C9AF3A1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AA9-5EE7-4E4A-A70F-F6AE4D14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674-276A-41DB-BCD3-D978B7F0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2874-B75C-43FF-B63A-E4EF4E9F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7DE1-5E6D-4445-A6E1-A60592F6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ED95-5225-49D4-AD0D-B571E7CF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B7E-02A5-478F-8B11-8F11BC8E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6094-B87F-4AF3-846A-2F55B6A2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97E-57F1-4FA2-A211-C4663D46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4CD4-7B74-4865-A284-F95DC58FA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对象的操作与引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绝对引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用地址从最外层容器直到目标对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对引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用地址从参照物到目标对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7-7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参照关键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参照关键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参照对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对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ISFOR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含该对象的表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ISFOMS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含该对象的表单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含该对象的父对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02:05:26Z</dcterms:created>
  <dc:creator>pcn</dc:creator>
  <dc:description/>
  <dc:language>en-US</dc:language>
  <cp:lastModifiedBy>pcn</cp:lastModifiedBy>
  <dcterms:modified xsi:type="dcterms:W3CDTF">2002-01-06T20:44:09Z</dcterms:modified>
  <cp:revision>2</cp:revision>
  <dc:subject/>
  <dc:title>对象的操作与引用</dc:title>
</cp:coreProperties>
</file>