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C09-2535-4C3A-B924-FA6B5DCE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D03-5935-46FE-B91F-2E9E6671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5A4-0EFC-4123-B8E2-B0B16533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530-DB2A-4EE3-A5BD-18AC34B9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BFF-D02E-416A-AFC2-9E7ADEA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3B2-EC9E-4EA5-A50A-4CEB23A0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4C8-8837-4A80-A80E-275C44AA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A3A-FA42-4A98-8E1A-E4E83199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D76-B47C-4850-B5A8-5C30D090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1DE-1BD8-4726-8749-FAE3DA6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086-1A41-4EEF-AAE8-E9C795CB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9A4-2806-4833-AB45-3D5F5CE1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8065-975A-4701-8C9A-821AECE41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用控件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19320" y="1066680"/>
          <a:ext cx="68580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6858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2:00:16Z</dcterms:created>
  <dc:creator>pcn</dc:creator>
  <dc:description/>
  <dc:language>en-US</dc:language>
  <cp:lastModifiedBy>pcn</cp:lastModifiedBy>
  <dcterms:modified xsi:type="dcterms:W3CDTF">2002-01-06T20:38:31Z</dcterms:modified>
  <cp:revision>2</cp:revision>
  <dc:subject/>
  <dc:title>常用控件表</dc:title>
</cp:coreProperties>
</file>