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D7A-2BA4-4B4C-8482-972B10FE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C49-77D1-41D5-94FF-8689B155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4B3-DF5F-4EB1-B406-EAFDB5C0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A7E-0C49-4A2F-9F0D-6F58FE59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4BF-8DA5-4BF8-B65C-FF6B7EC2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BCE-097B-41A9-879D-E7F95829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16A-640E-4932-94FD-3F2C38F9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545-6EF2-4D85-A558-04207B3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455-E351-48EC-9423-FA4E5334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395-A339-43BB-B483-27FDF4AC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D21-BBA5-4847-B0AC-391B2FC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448-5FC8-4964-A4B7-9035B59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E92-7B8F-4E6D-ABEB-18F239AB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与对象的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类与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容器与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6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53:40Z</dcterms:created>
  <dc:creator>pcn</dc:creator>
  <dc:description/>
  <dc:language>en-US</dc:language>
  <cp:lastModifiedBy>pcn</cp:lastModifiedBy>
  <dcterms:modified xsi:type="dcterms:W3CDTF">2002-01-06T20:29:17Z</dcterms:modified>
  <cp:revision>2</cp:revision>
  <dc:subject/>
  <dc:title>7.1  类与对象</dc:title>
</cp:coreProperties>
</file>