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D36-C389-4C2A-BB4D-CD4C8832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1C7-2C02-4014-BD5B-25AA03AF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384-E8B0-4048-84FE-9E9117CB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ABB-F3B4-4CC9-B7EA-5507CB90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C0A-C302-48B5-9DF2-476C5DA1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0FB-4CEF-4E95-BF54-B0E4B7B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3FA-BE2B-4F97-B15C-3534911F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430-D928-4FEB-9717-5423C170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9FB-61C8-43BB-A69B-B89877EB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EF0-06E4-4036-A79D-1131569C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F06-5EDB-4D1E-A3C6-FE331668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9E6-22E2-46CA-A28D-473979A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7B5A-18FB-4519-A011-F677477A5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类与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1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1.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1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与对象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1.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基类与子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1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04:06Z</dcterms:created>
  <dc:creator>pcn</dc:creator>
  <dc:description/>
  <dc:language>en-US</dc:language>
  <cp:lastModifiedBy>pcn</cp:lastModifiedBy>
  <dcterms:modified xsi:type="dcterms:W3CDTF">2002-01-06T20:41:04Z</dcterms:modified>
  <cp:revision>2</cp:revision>
  <dc:subject/>
  <dc:title>7.1 类与对象</dc:title>
</cp:coreProperties>
</file>