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5C9-1A11-4289-842D-E5F6DEEC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C39-9541-44ED-84DF-1F88440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DEC-ECFA-4D58-BBEF-1BB6CE76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A8A-E6C6-4DA1-9718-B367BC60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C7E-625C-4AEE-86E3-8F03BC6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45F-0D11-4908-ACAB-4B037F5B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1B7-B9BE-4D87-9D25-2B13CFEC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769-1D7E-4CEA-A7AA-1A6D9592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9F7-B76C-47E2-8714-17CEB66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0F3-28B3-44AB-B919-CA155B3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90F-74AD-426A-91FB-3D4EFF85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C11-1AAA-40F3-B5B0-A28C1FC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643-63CE-4526-BF2C-E6BD99A1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包括数据及用来处理这些数据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是显示数据和执行交互式操作使用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是附加和作用于对象的一个内存变量。是对象中的数据。是用来描述对象特征的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环境是对象运行所依据的数据信息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件是对象能够识别和响应的某些行为和操作。如：使用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法程序是对象在事件发生时进行的功能实现性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27:20Z</dcterms:created>
  <dc:creator>pcn</dc:creator>
  <dc:description/>
  <dc:language>en-US</dc:language>
  <cp:lastModifiedBy>pcn</cp:lastModifiedBy>
  <dcterms:modified xsi:type="dcterms:W3CDTF">2001-12-31T18:53:25Z</dcterms:modified>
  <cp:revision>1</cp:revision>
  <dc:subject/>
  <dc:title>7.1.1 对象</dc:title>
</cp:coreProperties>
</file>