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3C9-3B95-4394-BF80-36E12697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C79-5D78-49E0-95F9-8D4E6608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29A-E1C7-44E0-8265-E3340DBA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87B-36F6-4A5F-A18C-234611EA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8E3-7F5F-4747-8858-46631E4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A40-B62B-474E-B654-03F1644B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99F-D1C2-4910-87D8-C9505E2B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E68-9F44-43CD-A261-BF6AEF30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745-9073-4E59-B70D-04E66D0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0CD-9D0D-40AD-A203-1548E487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692-FEAC-44E0-9920-C6A43817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F6F-0028-448E-8F46-31D9D88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93CA-CD38-404D-834A-5908149D4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057400"/>
            <a:ext cx="7391520" cy="4419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3276720"/>
            <a:ext cx="1600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819520"/>
            <a:ext cx="19814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4800600"/>
            <a:ext cx="213336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19720"/>
            <a:ext cx="11430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295280"/>
            <a:ext cx="2438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0:01:38Z</dcterms:created>
  <dc:creator>pcn</dc:creator>
  <dc:description/>
  <dc:language>en-US</dc:language>
  <cp:lastModifiedBy>pcn</cp:lastModifiedBy>
  <dcterms:modified xsi:type="dcterms:W3CDTF">2002-01-06T20:43:04Z</dcterms:modified>
  <cp:revision>2</cp:revision>
  <dc:subject/>
  <dc:title>对象</dc:title>
</cp:coreProperties>
</file>