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2EC-CA96-4463-8C23-3EDA5125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EDB6-AD30-4345-9E1D-5C2E75F5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9097-6A52-429B-B5E1-9DF1F075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AB11-2F6A-41F5-B881-ED4110DE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3A6E-D1CB-49CF-A48B-C6ED23B7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8FED-D774-4A59-ACF9-C8918181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ABAF-8E87-4B49-AD89-8A651F2D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5278-FB91-465B-A4A0-9C439DD7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5BC7-BCC0-4F27-B12C-1BA712A9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5E7C-5BAE-49ED-B378-551E7D24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05EE-6B4B-4844-92CC-C05F9274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9C23-A9C7-47F3-A13C-585CE7E0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C408-0CED-4182-8F42-B0D87DD8A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第七章 面向对象程序设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1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与对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2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设计类与对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3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事件与方法程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7.1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类与对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1.1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1.2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1.3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与对象的关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1.4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基类与子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1.5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容器与控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1.6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属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7.1.1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对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象包括数据及用来处理这些数据的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控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属性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数据环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事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方法程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控件是显示数据和执行交互式操作使用的工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属性是附加和作用于对象的一个内存变量。是对象中的数据。是用来描述对象特征的参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数据环境是对象运行所依据的数据信息范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事件是对象能够识别和响应的某些行为和操作。如：使用控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方法程序是对象在事件发生时进行的功能实现性操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控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交互式操作提供了控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用控件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辑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本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复合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列表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按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容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常用控件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19320" y="1066680"/>
          <a:ext cx="685800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6680"/>
                    <a:ext cx="6858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常用属性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754280" y="838080"/>
          <a:ext cx="5634000" cy="54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838080"/>
                    <a:ext cx="563400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66680" y="2057400"/>
            <a:ext cx="7391520" cy="4419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控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对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3276720"/>
            <a:ext cx="16002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2819520"/>
            <a:ext cx="19814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事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4800600"/>
            <a:ext cx="213336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环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4419720"/>
            <a:ext cx="1143000" cy="1371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法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1295280"/>
            <a:ext cx="24382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对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838080" y="1787400"/>
          <a:ext cx="7772400" cy="14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87400"/>
                    <a:ext cx="777240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对象的操作与引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绝对引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用地址从最外层容器直到目标对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对引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用地址从参照物到目标对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7-7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参照关键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参照关键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参照对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对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ISFOR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包含该对象的表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ISFOMS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包含该对象的表单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包含该对象的父对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5:05Z</dcterms:created>
  <dc:creator>pcn</dc:creator>
  <dc:description/>
  <dc:language>en-US</dc:language>
  <cp:lastModifiedBy>user</cp:lastModifiedBy>
  <dcterms:modified xsi:type="dcterms:W3CDTF">2002-01-07T08:01:39Z</dcterms:modified>
  <cp:revision>3</cp:revision>
  <dc:subject/>
  <dc:title>第七章 面向对象程序设计</dc:title>
</cp:coreProperties>
</file>