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BE8-3092-49C3-9C20-E8DCB4BA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ABE-7CDB-478D-8FDE-14FBD688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132-E3DB-45EE-AD1A-27984C00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E6B-0F2B-4218-9ACE-0E58BB3C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E63-7042-4A22-89E5-0A4559A7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FFF-F225-4D7C-AE57-172135A3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7F7-B2C2-4D62-A7CA-A007CC9D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F2C-604A-4C41-A339-9607CD11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B0A-00A7-4075-A334-0F9A1DE2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4C4-2515-44EA-97A9-0E787268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B7F-2F40-42E6-879C-13598134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370-126A-41DB-A168-04941616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5239-80E0-48B3-9862-6D16A9DF4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60948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一页的页标头带区或者页注脚带区通常会包含一个页码。如果使用向导或快速报表，页码会自动插入页注脚带区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插入一个页号，从“报表控件”工具栏中插入一个域控件；在“报表表达式”对话框中选择“表达式”框后的对话按钮；在“表达式生成器”中，从“变量”列表中选择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pagen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选择“确定”。在“报表表达式”对话框中，选择“确定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报表表达式”对话框中，选择“表达式”框后的对话按钮。在“格式”对话框中，为该字段选择数据类型：“字符型”、“数值型”或“日期型”。 “编辑选项”区域将会显示该数据类型下的各种格式选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对齐方式和所需的格式选项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”对话框  “编辑选项”区域中所显示的选项随您所选定的数据类型的不同而不同。通过在“格式”框中键入字符，还可以建立一个格式模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07:17:05Z</dcterms:created>
  <dc:creator>pcn</dc:creator>
  <dc:description/>
  <dc:language>en-US</dc:language>
  <cp:lastModifiedBy>pcn</cp:lastModifiedBy>
  <dcterms:modified xsi:type="dcterms:W3CDTF">2002-01-06T07:19:51Z</dcterms:modified>
  <cp:revision>1</cp:revision>
  <dc:subject/>
  <dc:title>没有幻灯片标题</dc:title>
</cp:coreProperties>
</file>