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CE2-53E0-49C2-8D55-E3488838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C3D-14FA-4084-BEE4-61CCEC18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C6C-E5DE-4A23-BDA4-AC508D90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57A-2B2A-4D68-A147-0F50FA2C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584-1AE0-4021-A74C-673EC2A6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17A-60CA-434B-83C5-3ED565D2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03D-0A7C-451E-B7D0-F9AF9AA6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448-5B0B-42B0-80F9-90B3EA9F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BCE-370D-40CE-9BD2-F6D8CC77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981-9E87-45EF-B86A-57080417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14E-8F17-41AE-843C-C9B1DAA6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F85-99DA-49E4-8107-6AD34F0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8BE7-AC4F-4906-A76A-93EE908ED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380880"/>
          <a:ext cx="807732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17:36:17Z</dcterms:created>
  <dc:creator>pcn</dc:creator>
  <dc:description/>
  <dc:language>en-US</dc:language>
  <cp:lastModifiedBy>pcn</cp:lastModifiedBy>
  <dcterms:modified xsi:type="dcterms:W3CDTF">2002-01-06T20:51:38Z</dcterms:modified>
  <cp:revision>2</cp:revision>
  <dc:subject/>
  <dc:title>没有幻灯片标题</dc:title>
</cp:coreProperties>
</file>