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98A-5D33-40B8-9ED9-293D6C8B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82B-1F64-45C7-AB04-702DE727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9F7-BB15-432C-A0BE-205CF923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770-666B-4609-90F7-77F95BAE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9E5-D36A-498B-A422-CE07C978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B6D-6A7E-4C52-A05E-300BE012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910-0D4D-4800-B839-C906E465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820-E6B6-4366-9203-2A9357B4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2FA-87DE-4F1E-8C3C-3B0321DE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B29-E552-4A5B-BA58-782C973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BA0-A322-4291-9224-2BE78827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7D9-D26C-4D91-BF50-B4FA3A88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09D6-D212-4DA0-A0F2-529411E0B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51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90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Visual FoxPro 6.0 </a:t>
            </a:r>
            <a:r>
              <a:rPr b="1" lang="zh-CN" sz="72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程序设计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602240"/>
            <a:ext cx="510516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隶书"/>
              </a:rPr>
              <a:t>首都经济贸易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隶书"/>
              </a:rPr>
              <a:t>计算中心（西区）制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5812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00"/>
                </a:solidFill>
                <a:latin typeface="楷体ＣＳ"/>
                <a:ea typeface="楷体ＣＳ"/>
              </a:rPr>
              <a:t>（阶段测验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9060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有如下命令序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在要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追加新记录，但又不改变当前数据表的打开状态，应该使用命令序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f1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1  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f1 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        APPEND            APPEND          APP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  RELEASE 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功能是（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删除指定的内存变量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删除所有内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删除所有文件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删除内存变量文件中的内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命令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“中心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国家教委考试中心”）的显示值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28600"/>
            <a:ext cx="8534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定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“123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=“234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则下列表达式的运算结果为逻辑假的是（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OR.B$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579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A$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AN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＜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＜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如下命令序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100 TO 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200 TO Y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300 TO Y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“A” T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“Y&amp;N”TO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一条命令的显示值应是（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&amp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下列命令中，能够关闭数据库的命令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USE   B)CLOSE DATABASE   C)SET DB OFF    D)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3049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以下命令序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#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     出生日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欧阳惠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7/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明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/24/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杨霞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/05/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 ON  DTOC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生日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 TO 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该命令序列后，记录显示顺序是（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欧阳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7/12/69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杨霞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/05/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明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/24/70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明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/24/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杨霞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/05/71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欧阳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7/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杨霞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/05/71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李明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/24/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欧阳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7/12/69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欧阳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7/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明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2/24/70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杨霞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/05/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457200"/>
            <a:ext cx="838224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下列命令后，打开的数据库文件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=“WAGE”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WAG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F           B)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&amp;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F        D)“WAG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命令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('04/05/97'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屏幕上显示的结果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C      B)N      C)04/05/97          D)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数据表文件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，当前记录号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执行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RE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后，当前记录号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10      B)20     C)21        D)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当前数据表文件中“性别”字段的值全部清除，但仍保留该字段，应当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MODIFY STRUCTURE  B)DELETE  C)REPLACE   D)Z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管理系统中，内存变量文件的扩展名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TXT     B)DBT     C)DBF       D)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38088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下列表达式中，运算结果为字符串的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“1234”-“43”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“ABCD”+“XYZ”=“ABCDXYZ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DTOC(DATE())&gt;“04/05/97”)    D)CTOD(“04/05/97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数据表文件共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，当前记录号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计算工资总和，如果不给出范围短语，那么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计算当前记录工资值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全部记录工资值之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工资值之和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工资值之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([12]+[34]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N    B)C     C)1234       D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错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命令中正确的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Ａ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8 TO X,Y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Ｂ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8,9 TO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8,Y=9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Ｄ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Y=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要删除一个未打开的数据表文件，应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ER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        B)DELET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ERASE F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   D)CLO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45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等级考试”这七个汉字作为字符串常量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可表示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等级考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   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等级考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计算机等级考试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等级考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列命令中错误的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 TABLE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 QUERY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查询结果不能输出的格式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图形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视图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浏览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清屏的命令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S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O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区别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前者按指定关键字排序，而后者按指定记录排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前者按指定记录排序，而后者按指定关键字排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前者改变了记录的物理位置，而后者却不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后者改变了记录的物理位置，而前者却不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633240"/>
            <a:ext cx="80010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把两个数据表文件进行横向联接应选用命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RELATION 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6 TO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对数据表的要求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未被打开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前数据表文件已按同一关键字段索引或排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前数据表字段都为数值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前数据表文件是非空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顺序执行以下赋值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‘5/6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=[5*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=5+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后，下列表达式中，合法的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+B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+C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+A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+B+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533520"/>
            <a:ext cx="83059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下列文件中，不必与数据表文件同时使用的文件只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PT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IDX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CDX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列概念中正确的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同一个工作区中，某一时刻只能有一个表文件处于打开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个表文件可以被包含在不同的数据库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个工作区中可以同时打开多个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生成的表文件可以与连接表文件在一个工作区同时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记录的记录号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 BEFO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插入一条新的记录，该新记录的记录号应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能够进行条件定位的命令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SKIP     B) SEEK     C) LOCATE     D)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38088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如下命令序列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OR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QTY TO AQTY FOR ITEM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ITEM TO X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 ON ITEM TO TTT FIELDS Q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Q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命令显示的结果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TEM             Q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印机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华硕主板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印机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执行以上命令序列，？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AQTY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命令显示的值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241 B) 220 C) 164 D) 1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304920"/>
            <a:ext cx="8534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如下命令序列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OR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QTY TO AQTY FOR ITEM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ITEM TO X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 ON ITEM TO TTT FIELDS Q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Q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命令显示的结果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TEM              Q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印机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华硕主板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印机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奔腾Ⅱ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执行以上命令序列后，数据表文件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TT.DBF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中的记录共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 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77616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Visual FoxPro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阶段测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1676520" y="2294640"/>
            <a:ext cx="58672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阶段    数据库、查询与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676520" y="3182040"/>
            <a:ext cx="58672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阶段测验    结构化程序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1676520" y="4956480"/>
            <a:ext cx="5867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676520" y="4069440"/>
            <a:ext cx="58672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阶段测验    综合测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5228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顺序执行命令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”5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6*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=LEFT(“FoxBAES”,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后，下列表达式中，合法的表达式只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X+Y    B) Y+Z    C) X-Z+Y    D) &amp;X+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判断数值型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能够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错误的条件表达式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MOD(Y,7)=0          B) INT(Y/7)=Y/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 0=MOD(Y,7)          D) INT(Y/7)=MOD(Y,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下列语句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”99.88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VAL(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&amp;Y=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以上语句序列之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一条命令的显示结果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99.88    B) .T.    C) .F.    D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错信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xB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在执行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ATE AMERICA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后，不能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年份的命令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EAR(DATE(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FT(DTOC(DATE()),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FT(DTOC(DATE(),1),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BSTR(DTOC(DATE(),1),1,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152280"/>
            <a:ext cx="83822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有学生数据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SH.DBF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学号、姓名等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课程数据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CH.DBF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课程号、课程名等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选课数据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K.DBF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学号、课程号、成绩等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下述命令序列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XSH ALIAS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XH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KCH ALIAS 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XH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X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RELATION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O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RELATION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O K ADDI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执行上述命令序列后，以下查询命令一定正确的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 LIST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，姓名，课程名，成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 LIST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B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 LIST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X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K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 LIST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XSH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KCH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30492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填空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使日期型数据能够显示世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年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该使用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(SPACE(3)-SPACE(2)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不使用索引的情况下，为了定位满足某个逻辑条件的记录应该使用命令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考生数据表已经打开，数据表中有“年龄”字段。现要统计年龄小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的考生人数，并将结果存储于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应该使用的完整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“BYE”$“GOOD BY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字符串“清华大学”中取出“华”字，应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BSTR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第三条到第五条记录的命令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RECNO()&gt;2 .AND.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1=“US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2=“.F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3=“.T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.NOT.&amp;N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果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将显示当前目录中扩展名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819000"/>
            <a:ext cx="85345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操作题：写出完成下列要求的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DBf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、姓名、民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ore.DBf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、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个数据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它们之间建立逻辑连接，然后为每个少数民族考生的成绩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，最后显示全体考生的学号、姓名和成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DBf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、姓名、民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ore.DBf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、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个数据表。在它们之间建立物理连接，生成一个新的数据表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SC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要求包括学号、姓名、成绩三个字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ore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文件，通过学号建立分类汇总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80880"/>
            <a:ext cx="830592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程序设计测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号：         姓名：        班级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、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过程文件可以包含多个过程，每个过程的第一条语句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)PARAMETER       B)DO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程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)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程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&gt;               D)PROCEDURE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程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AI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条命令，需要以回车键表示输入结束的命令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)WAI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P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)WAI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)ACCEP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PUT              D)INPU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76320"/>
            <a:ext cx="8305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阅读下列程序，此程序执行后的输出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X&lt;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5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   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  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下列程序的执行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I=1 TO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S+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   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228600"/>
            <a:ext cx="83822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执行下列程序，其输出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[13+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13+7]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+7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有如下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程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CX.PRG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程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CX1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            K1=K1+'200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1='12'                         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ZC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ZC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程序后，屏幕显示的结果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12     B)12      C)12         D)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      212       12200      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46656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执行如下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“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？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S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最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显示值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1    B)3    C)5    D)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用于建立过程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G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命令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CREATE RPOG1     B)MODIFY COMMAND PR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MODIFY PROG1     D)EDIT PR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5228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如下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A=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国计算机等级考试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B=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九八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C=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A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?BB+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第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CC+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次考试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执行程序后，屏幕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国计算机等级考试九八年第一次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国计算机等级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九八年第一次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国计算机等级考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次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国计算机等级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次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254160"/>
            <a:ext cx="8610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程序如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C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-&gt;ZF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.NOT.E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-&gt;ZF=M-&gt;ZF+Z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-&gt;Z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数据表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J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，内容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M    Z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四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张三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该程序的结果应当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1100.00     B)1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1600.00     D)12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28600"/>
            <a:ext cx="83818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阶段测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号：      姓名：      班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选择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管理系统的数据模型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结构型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关系型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网状型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层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文件中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备注型字段，该数据表的备注文件数目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为数值型、字符型、逻辑型内存变量。在下面的表达式中错误的表达式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*N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-“A”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10.OR.L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&g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系数据库中的三种基本操作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示、查找、打印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扫描、选择、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、投影、连接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示、排序、打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当前数据表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为真时，命令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N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的显示结果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-76320"/>
            <a:ext cx="86108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有如下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MENSION K(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I&lt;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J&lt;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(I,J)=I*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?K(I,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?"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=J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此程序的结果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1 2 3    B)1 2   C)1 2 3   D)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4 6        3 2       1 2 3       2 4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04920"/>
            <a:ext cx="838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如下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 WHILE N&gt;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=M+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=N+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运行此程序显示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值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)0   B)10   C)100   D)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7632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如下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程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.PRG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子程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1.P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ET TALK OFF                    X2=X2+1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2 TO X1,X2,X3       DO Z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1=X1+1                                X1=X1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Z1                                  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1+X2+X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子程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2.P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3=X3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TURN TO M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执行命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Z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，屏幕显示的结果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)9   B)10  C)3   D)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561960"/>
            <a:ext cx="845820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如下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程序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ZCX.PRG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子程序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ZCX1.P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T TALK OFF            K1=K1+'200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K1='AB'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 ZCX1                      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执行命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 ZC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后，屏幕显示的结果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)AB         B)AB200     C)AB200    D)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B200      AB200          AB             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7632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题 设有两个数据表文件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XUESH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CHENGJ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，分别保存某班学生的情况及考试成绩。其结构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XUESH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表文件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字段名  类型  宽度  小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姓名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C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学号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C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CHENGJ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表结构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字段名  类型  宽度  小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学号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C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课程号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C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成绩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N     3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下列程序的功能是列出平均成绩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85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的学生学号、姓名和平均成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ELECT 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USE CHENGJ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ELECT 2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USE XU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304920"/>
            <a:ext cx="868680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.NO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(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JUNFEN FOR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15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6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JUNF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JUN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B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ALL                       D)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. A)SELECT l     B)SELECT 2  C)SKIP        D)GO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.A)SKIP              B)SKIP -1       C)GO TOP  D)GO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1155600"/>
            <a:ext cx="83818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8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题 打开数据表文件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GZ.DBF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后，执行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LIST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命令，屏幕显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RECORD#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姓名     性别  职称    工资   奖金  实发工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李钢     男    工人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45       50            2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孙延生 男    工程师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300       70            3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3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王明     女    工人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25       40            2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4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马芳香 女    工人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55       70            3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5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赵福生 男    工程师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20       70            3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0492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运行下列程序段执行的功能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ATE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＝“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王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性别为“女”的所有职工的记录物理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性别为“女”、名字为“王明”的职工记录逻辑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名字为“王明”的所有职工记录物理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性别为“女”、名字为“王明”的职工记录物理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93840"/>
            <a:ext cx="815328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运行下列程序段执行的功能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＝“男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PLAC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奖金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奖金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.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将性别为“男”的所有职工奖金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性别为“女”的所有职工奖金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将性别为“女”的当前职工奖金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将性别为“男”的当前职工奖金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2860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填空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要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奇数之和，试将下列程序补充完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X&lt;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2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2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“0~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的奇数之和为：”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600"/>
            <a:ext cx="830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“19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庆祝澳门回归祖国！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X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之后，要在屏幕上显示“澳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回归祖国！”，应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UBSTR(XY,15,4)+SUBSTR(XY,1,10)+SUBSTR(XY,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UBSTR(XY,15,4)+LEFT(XY,1,10)+RIGHT(XY,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UBSTR(XY,15,4)+LEFT(XY,10)+RIGHT(XY,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UBSTR(XY,15,4)+LEFT(XY,10)+RIGHT(XY,19,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有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i=3.14159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执行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U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i,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显示结果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141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142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140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数据表文件中有一个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字符型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执行如下命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 sname  WITH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丹樱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一条命令的显示结果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396720"/>
            <a:ext cx="822960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3—27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题有四个数据表，表文件名及其中各字段名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1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DBF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学生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)               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DBF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教师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学号 姓名 班级                     职工号  教师  姓名 课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3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DBF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课程安排一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)  4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4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DBF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课程安排二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班级  课号                                课号 课程名称  教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要求按学号顺序给出每个学生所要学的课程名称、任课教师姓名及教室。程序如下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ELE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USE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NDEX  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23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TO Tl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E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USE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E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JOIN  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2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04920"/>
            <a:ext cx="8458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1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2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1T3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2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-7632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以下是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~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阶乘的程序，请将程序补充完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2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J&lt;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2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=J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I&g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3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17360"/>
            <a:ext cx="8610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阅读下列程序，并给出运行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0 TO 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X&l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INT(X/2)=X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=S1+X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MOD(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=S2+X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INT(X/2)&lt;&gt;X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3=S3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以上程序后，屏幕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31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682560"/>
            <a:ext cx="853416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数据表文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ks.db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有成绩字段（数值型），其值为全国计算机等级考试考生成绩。有如下程序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USE 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x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WHILE.NOT.EOF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x=MAX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成绩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K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执行以上程序后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命令显示的数据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32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228600"/>
            <a:ext cx="8458200" cy="61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共有五个数据表文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d1.dbf——std5.dbf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面程序的功能是删除每个表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件的末记录。请填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WHILE n&lt;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b=__33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USE &amp;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TO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=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320" y="304920"/>
            <a:ext cx="891540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程序的功能是根据销售数据表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le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数据去修改库存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ventry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，请对程序填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inv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__34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ATE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商品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b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商品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b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金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35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80880"/>
            <a:ext cx="830556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程序段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0 TO X,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WHILE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=X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=Y+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”Y=”+STR(Y,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个程序执行后的结果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36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2848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7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经建立了工资数据表文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Z.DB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要修改其中水电费字段值，请在下面程序中填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USE 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CEPT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将水电费字段清零吗？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/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＞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F ___37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PLACE ALL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电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TH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ROWS FIELD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姓名，水电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-7632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9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下列程序，若依次输入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5,8,2.5,3,2,2,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输出结果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38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39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I&lt;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“A=”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A&gt;INT(A).OR.A&gt;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“B=” 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B=INT(B).AND.B&l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A+B=”,A+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2860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有多条记录的数据表打开后，要在第一条记录后增加一条空记录，应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    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 BEFORE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下列表达式中，结果为字符型的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5”-“100” 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YZ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XYZ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OD(“07/01/97”)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TOC(DATE())&gt;“07/01/9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盘根目录下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.PR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复制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盘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录中，应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A:\STD.PRG C:\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 A:\STD.PRG TO C:\DB\STD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A:\STD.PRG TO C:\DB\STD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 C:\DB\STD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职工数据表和按“工作日期”索引的索引文件已经打开，要把记录指针定位到工作刚好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的职工，应当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ND DATE()-30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 DATE()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ND DATE() 30 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 DATE()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433440"/>
            <a:ext cx="861048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下列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G.PRG**        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BPRO.PRG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                      PRIVAT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学们”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BLIC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你们好！”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程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”,X                   Y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程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”,Y                   Z=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SUBPRO                           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程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”,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主程序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”,X           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程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”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主程序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”,Y           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程序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=”,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主程序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=”,Z           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PRO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___40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主程序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=___41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228600"/>
            <a:ext cx="55623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综合测试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号：         姓名：        班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316160"/>
            <a:ext cx="883908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单选题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，每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数据库文件的扩展名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IDX      B).DBF     C) .CDX     D) .DB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共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  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     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  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N(STR(20356.56,5)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值的类型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字符型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值型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逻辑型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通用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不能关闭数据表文件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.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LEAR 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LOSE DATABASE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LOSE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=“567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amp;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类型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.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值型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字符型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日期型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逻辑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以下各表达式中，属于数值型表达式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.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+8”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(“B”,“A BOOK”)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0&gt;50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E()-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304920"/>
            <a:ext cx="8153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下列命令的执行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=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=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=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=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N.AND..NOT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.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  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   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T.   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职工档案”表文件中，婚否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字段（其中，已婚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），性别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字段，若检索“已婚的女同志”，应该用逻辑表达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婚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OR.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已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AND.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婚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AND.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已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OR.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下列有关数组的说法正确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.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组的赋值只能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TO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命令实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组不是一种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组在定义之后，不能进行重新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数组只有一维数组和二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执行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CTOD('03/09/94')TO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类型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日期型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值型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备注型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符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已经定义了一个二维数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(6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(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各数组元素的值依次是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又定义了一个二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2,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执行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(2,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显示的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示变量未定义的提示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UND(568.78,-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的值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68.8  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70  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69    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56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如果将日期格式设置成“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”的形式，应使用的命令是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DATE TO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SI 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MERICAN  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DY    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以下命令中，可以显示“大学”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4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SUBSTR(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都经贸大学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5,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SUBSTR(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都经贸大学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9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SUBSTR(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都经贸大学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5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SUBSTR(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都经贸大学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9,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30492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如果想恢复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命令删除的若干记录，应该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5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CALL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S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键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LEASE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设当前数据表中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真时，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ECNO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显示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要清除当前所有其名字的第二个字符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存变量，应该用命令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*X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LIK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LIKE ?X*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LIKE ?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打开的表文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JY.DB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当前记录位置为记录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将记录指针移向记录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IP 100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IP 30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O –30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O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时，其范围子句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执行该命令后，记录指针指向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首记录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末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首记录的前面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末记录的后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38088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“234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=“456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下列表达式值为假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(A=B).OR.(B $“ABC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(A $'ABC').AND.(A&lt;&gt;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(A&lt;&gt;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(A&gt;=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数据表已经在当前工作区打开，为了在文件中某条记录的后面增加一条空记录，应该使用命令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 BLANK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 BLANK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在非嵌套程序结构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基本程序结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Ａ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XT——ENDTEXT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Ｂ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——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——ENDIF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Ｄ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CASE——END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457200"/>
            <a:ext cx="830592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设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分别打开两个数据表，内存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为两个表的公共字段名，内存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容为新数据表名。在工作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联接命令，正确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OIN WITH B TO DBN FOR &amp;AA=&amp;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OIN WITH B TO DBN FOR AA=B-&gt;&amp;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OIN WITH B TO &amp;DBN FOR &amp;AA=B-&gt;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OIN WITH B TO &amp;DBN FOR &amp;AA=B-&gt;&amp;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下列函数的结果为数值型数据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()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F()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UND()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N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要从某个表文件中真正删除一条命令，应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直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A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先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再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A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直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先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再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5416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显示物理、化学、语文中至少有一门不及格的学生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.AN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化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.AN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.AN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化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.O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.O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化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.O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化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如果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工作区打开了“学生表”文件后，又进入了别的工作区，当要从别的工作区返回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工作区时，可以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2     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以上都可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当需要对满足条件的全部记录进行操作时，以下关于条件短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说明，正确的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作用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使用索引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作用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用在任何需要条件短语的地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可以用在记录已经排序的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4572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运行如下的程序，其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X&l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X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3  9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9 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6  9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3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在打开的数据表文件中有工资字段（数值型），如果把所有记录的工资增加百分之十，应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 A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1.1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A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1.1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如果需要在数据表中增加一个字段，可以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STRUCTURE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NGE                       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30492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数据表结构包括职称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C/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N/6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要求按工资升序，工资相同者按职工号升序，建立索引文件应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Ａ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职工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D TO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Ｂ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INDEX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职工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STR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6,2)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职工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Ｄ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职工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A TO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下列命令中错误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TABLE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QUERY   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IF(“600”&gt;“66”,600,66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00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6    C) .T.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只显示打开的数据表文件中当前记录的内容，应该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LAY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下列不能作为查询输出格式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临时表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视图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标签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图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254160"/>
            <a:ext cx="8610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数据表文件已经在当前工作区打开，有关索引文件已经建立，要打开该数据表文件的某索引文件，应该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 INDEX  TO 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 INDEX 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 INDEX 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必须与数据表文件一起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对数据表文件分别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进行复制时，以下叙述中错误的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时必须先打开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时数据表必须关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可以同时复制备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可以同时复制备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功能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区号最小的空闲工作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区号最大的空闲工作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当前工作区的区号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工作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随机选择一个工作区的区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下面有关交叉表查询的说法正确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交叉表查询只能使用一个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交叉表查询可以使用多个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通过交叉表查询可以更改数据表中的相关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交叉表查询是在两个表中交叉进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可以给数值型内存变量和字符型内存变量输入数据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CEPT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DIT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 TO AA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可以把内存变量存储到磁盘上，该文件的文件名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AA             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AA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AA.MEM        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AA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执行下列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K=“USE TMP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O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显示的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K                  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不执行任何操作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打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MP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3049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多选题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，每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若刚打开的表文件中有字符型字段“姓名”，按“姓名”建立的索引文件也已打开。现要查找姓名为“王明”的记录，正确的命令应该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EK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明”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EK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CATE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明”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CATE FO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IND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明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IND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要删除当前目录下的一个数据表文件“学生成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DBF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应使用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DB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ET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SE FIL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ETE FIL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当前工作区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号工作区，如果要引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号工作区中打开的数据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GZ.DBF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字段“工资”的值时，可以使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资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Z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资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-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资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83059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数据库系统采用的三种模型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44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其中关系型数据库的三种基本操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45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层次型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混合型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网状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环状型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关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选择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查找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投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连接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显示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打印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能够显示表文件中所有记录的命令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LAY  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 ALL 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AL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8088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程序填空题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，每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.PR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功能是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所有奇数的平方和并输出结果，请填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**A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4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48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49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0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304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1~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设有数据表文件 “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于保存某班学生的考试成绩。“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字段：学号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姓名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数学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语文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英语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平均成绩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下列程序是用来统计“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每门课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以上的人数，并调用子程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ECK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结果。如果某门课程没有高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的，则不显示；否则就显示，并要求显示的数字前没有空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                           I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英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=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5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TO X,Y,Z                    Z=Z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.NOT.EOF()    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5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=80                          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X+1                                DO CHECK WITH X,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                                    DO CHECK WITH Y,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=80                          DO CHECK WITH Z,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英语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Y+1                               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380880"/>
            <a:ext cx="838188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CHECK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3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5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GTH=LEN(LTRIM(STR(VAR1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VAR2+“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以上的人数是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STR(VAR1,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5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+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6~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以下是一个输入口令检查程序。口令设定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允许用户输入三次口令，如果三次输入错误，则显示有关信息，退出应用程序，如果口令正确，则打开“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，显示该文件的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5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CEPT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输入口令：”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5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360360"/>
            <a:ext cx="830556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UPPER(K1)&lt;&gt;“STUD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=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5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令错误，不能使用此系统，再见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9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0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514440"/>
            <a:ext cx="830592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阅读下列程序，此程序执行后的输出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0 TO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HILE X&lt;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MOD(X,5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Y+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254160"/>
            <a:ext cx="8610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下列程序中子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显示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主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显示结果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SUB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VA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W*L*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MAIN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39060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~7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 用编辑框、文本框、按钮、标签构成一个表单。在标签中显示以下文字：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~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能够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的整数和是：”；运行表单，点击“开始”按钮后，进行计算，在编辑框中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~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能够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的整数；在文本框中显示计算结果，单击“清除”按钮，将编辑框中的结果清除。完成上述任务，应该使用“开始”按钮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4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事件，同时将标签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值设置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~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能够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的整数和是：”，将文本框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值置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6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开始”按钮的事件代码如下，请将其补充完整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X=101 TO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67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EDIT1.VALUE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6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EDIT1.VALUE+STR(X,5)+CHR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FORM.TEXT1.VALUE=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70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请编写“清除”按钮的事件代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8088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下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中，不能修改数据记录的命令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DIT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NGE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下面命令中，执行效果一定相同的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男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男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工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&gt;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①和④、②和③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①和③、②和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①和②、③和④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①、②、③和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已打开的数据表文件中有“姓名”字段，此外又定义了一个内存变量“姓名”。要把内存变量姓名的值传送给当前记录的姓名字段，应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姓名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M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M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ATHER FROM M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ELD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82296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写命令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某数据库有学生档案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sda.db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学生成绩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scj.db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张数据表。前者有字段：“姓名”、“学号”、“性别”；后者有字段：“学号”、“数学”、“外语”。现要求两张表以“学号”关联为基础，以“外语”成绩为序，列出“外语”成绩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以上的每个学生的“姓名”、“学号”和“外语”成绩。请写出能实现此要求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-SQ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、名词解释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软件中经常出现以下的名词，其对应的中文名称各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60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0492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打开数据表，其中出生年月字段为日期型，年龄字段为数值型。要计算每条记录今年的年龄并把其值填入年龄字段中，应使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A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YEAR(DATE())-YEAR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生年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A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DATE()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生年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A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DTOC(DATE())-DTOC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生年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)REPLACE A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VAL(SUBS(DTOC(DATE()),7,2) - SUBS(DTOC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生年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,7,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 ABC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具有两个备注型字段的数据表文件，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 PS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进行复制操作，其结果将（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得到一个新的数据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得到一个新的数据表文件和一个新的备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得到一个新的数据表文件和两个新的备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示出错误信息，表明不能复制具有备注型字段的数据表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390600"/>
            <a:ext cx="845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定出生年月字段为日期型，日期格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d/mm/yy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四组命令中各命令功能完全等效的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SUBS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4,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YE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B “97”$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SUBS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7,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YE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“97”$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SUBS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YE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“97”$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SUBS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T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,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R YE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出生年月）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OE “97”$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生年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长度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SP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）的值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03:59:03Z</dcterms:created>
  <dc:creator>xsy</dc:creator>
  <dc:description/>
  <dc:language>en-US</dc:language>
  <cp:lastModifiedBy>yao</cp:lastModifiedBy>
  <dcterms:modified xsi:type="dcterms:W3CDTF">2001-12-26T14:35:09Z</dcterms:modified>
  <cp:revision>28</cp:revision>
  <dc:subject/>
  <dc:title>没有幻灯片标题</dc:title>
</cp:coreProperties>
</file>