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275A-E62E-4A8B-8A3C-92E3996CC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0875-9BAC-4A29-BF1E-654B0B953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8BF6-7F02-4A2C-9928-0A8B059A2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366A-BA61-4A93-AB34-5434D12FF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0197-4253-4C40-895C-8356BDB71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C0E1-2E82-44E8-A8CD-F42DC6B7F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14EE-C8AC-4531-B7F5-A8EB15F27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9B9C-4DBE-4B89-B7C2-8202EB315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EF23-9939-4EC7-B599-5834F9298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F389-B37B-466C-B675-5546A6AE9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29FE-7D06-4BC3-A1B5-C74F0E58E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0875-DF2C-4D41-ABA7-BE5FF4294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5E6E4-947E-49A6-A2A1-720625788B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2120" y="457200"/>
            <a:ext cx="7543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为“退出”按钮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lick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事件编写代码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ele this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e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estore scr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结果如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-2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所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666880" y="2514600"/>
          <a:ext cx="3686400" cy="223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2514600"/>
                    <a:ext cx="3686400" cy="22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"/>
          <p:cNvSpPr/>
          <p:nvPr/>
        </p:nvSpPr>
        <p:spPr>
          <a:xfrm>
            <a:off x="2895480" y="4876920"/>
            <a:ext cx="38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8-2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533412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本例题设计时应注意：“课程号”按钮与文本框一、“课程名”按钮与文本框二在使用上的配合一致性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编写“开始”按钮程序代码时应严谨统一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3T00:10:23Z</dcterms:created>
  <dc:creator>pcn</dc:creator>
  <dc:description/>
  <dc:language>en-US</dc:language>
  <cp:lastModifiedBy>pcn</cp:lastModifiedBy>
  <dcterms:modified xsi:type="dcterms:W3CDTF">2002-01-03T00:30:39Z</dcterms:modified>
  <cp:revision>1</cp:revision>
  <dc:subject/>
  <dc:title>没有幻灯片标题</dc:title>
</cp:coreProperties>
</file>