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EEF4-F9BC-446E-9A29-0ABC64F3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C2A3-686F-431B-9C85-E3AE7B20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3FAD-3D2C-4811-AF6A-64337C274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A2B0-0139-4EEF-B623-ED91789B0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C39D-1EE5-44B3-A2FB-6A458BBD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32C5-A0CD-4665-AD85-C17D0907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CB56-FE89-4B60-88A3-6A30F966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14BC-512D-4D0C-BEDF-F30B5CC2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9721-D5E4-42C5-A05C-FEC42FCF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110A-E9B3-44E1-A9E8-79C0423E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0F4F-C14E-4D73-9713-40DBC96A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9316-AB45-4F0D-B10B-E4B07314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1895-2D39-4A64-B080-804CE73DB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57200"/>
            <a:ext cx="792504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se cx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ctivat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班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姓名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ner joi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数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号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ner joi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valu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se cx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ctivat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室号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value2 order b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00:06:52Z</dcterms:created>
  <dc:creator>pcn</dc:creator>
  <dc:description/>
  <dc:language>en-US</dc:language>
  <cp:lastModifiedBy>pcn</cp:lastModifiedBy>
  <dcterms:modified xsi:type="dcterms:W3CDTF">2002-01-03T00:10:14Z</dcterms:modified>
  <cp:revision>1</cp:revision>
  <dc:subject/>
  <dc:title>没有幻灯片标题</dc:title>
</cp:coreProperties>
</file>