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5C5-278C-4161-B2F3-4DCD24B3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064-B78B-4A6F-8F39-7815C4A9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85B-6AE6-4B5A-AED0-73AB11B2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1CE-54A7-40EB-8A6C-5F861D47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8AC-66F9-44FA-AE38-5DE49C6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359-EE8E-4510-8242-741EBD23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050-ADA4-45EC-8C5E-3690EA46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DDC-8918-499F-A93A-D9E6478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832-65E4-405E-B6FF-BF30314C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713-FFA8-466D-AF35-D20AC6B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D43-F0A2-47BB-AFFA-ED94072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99-0C31-4396-9D5C-7985455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8BD-BE84-4438-8400-F2A4F5BB2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十章 菜单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784872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系统结构及其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编程方式添加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2.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组各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创建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380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219320"/>
            <a:ext cx="845820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是出现在单文档界面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窗口中的菜单。如果要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，必须在设计菜单时指出该菜单用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。除此之外，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的过程与创建普通菜单完全相同。具体操作为：打开“菜单设计器”，从“显示”菜单中选择“常规选项”，并选择“顶层表单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创建好后，可以在菜单上设置菜单项。每个菜单项都表示了一个我们希望用户执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过程，菜单项也可以包含子菜单，用以提供其他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0.2.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组各菜单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可读性，可使用分隔线将内容相关的菜单项分隔成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名称”栏中，键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便可以创建一条分隔线。拖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符左侧的按钮，可以将分隔线移动到正确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30120"/>
            <a:ext cx="784836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533520"/>
            <a:ext cx="81532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菜单系统结构及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使用软件查找信息之前，首先看到的便是菜单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菜单系统实际上是一个树型结构。菜单栏是指菜单最上面的一层，即几乎所有应用程序都有并始终都可看到的菜单名列表栏；菜单栏中的每个菜单名代表了一个主菜单选项，主菜单项的名称即菜单标题。例如：“文件”是一个主菜单项的标题，点击主菜单项将它展开，显示它所具有的子菜单选项。每一个主菜单项可以直接对应于一条命令或过程；一般每个主菜单对应有一个下拉菜单，下拉菜单中包含了一组菜单项；如果是对应于一个子菜单，则子菜单里又可包含一组相关的菜单项，它们又分别对应于一个子菜单或直接对应于一条命令，从而形成一个不断分支的树型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95280"/>
            <a:ext cx="815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菜单设计器时，系统菜单将添加一个“菜单”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菜单：用于快速设计菜单。打开“菜单设计器”，尚未输入任何其它内容时该选项是活动的。选择它，可将系统菜单的内容提取到当前菜单设计器中显示，亦可对该菜单进行修改调整，形成一个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菜单项：在当前菜单项下插入一个菜单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栏：显示插入系统菜单条对话框，它允许向菜单设计器窗口中添加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菜单项：删除当前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：激活生成对话框，根据当前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文件，生成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程序代码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览：菜单预览，演示设计的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使用菜单设计器时，“显示”菜单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中将添加如下菜单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规选项”对话框：将激活一个常规选项对话框，它允许为整个菜单系统指定代码。该对话框提供如下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编辑”框：在这里输入菜单过程代码。如果代码过多超出编辑域，编辑域右侧的滚动条将被激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”按钮：按下“编辑”按钮将打开一个编辑窗口来输入菜单过程的代码。要进入编辑窗口编写程序，按“确定”按钮关掉对话框就可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区：包含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换：将现有的菜单系统替换成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追加：将定义的菜单附加在现有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后：将定义的菜单插入到指定菜单的后面。选中这一选项将出现一弹出列表，其中列出了当前菜单系统的菜单名，可从中选择一个菜单名，已定义的菜单将出现在该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前：将用户定义的菜单插入到指定菜单前。选中这一选项将出现一弹出列表，列出了当前菜单系统的菜单名。可从中选择一个菜单名，用户定义菜单出现在该菜单的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3808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代码：包括两个复选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：选中这一项将打开一编辑窗口，从中可为菜单系统加入一段初始化代码。要进入打开的设置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理：选中这一项将打开一个编辑窗口，从中可为菜单系统加入一段结束代码。要进入打开的结束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层表单：如果选定该复选框，将允许该菜单在顶层表单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中使用；如果未选定，只允许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框中使用该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“单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选择“显示”菜单中的“菜单选项”时将显示“菜单选项”对话框，为菜单栏（即顶层菜单）或各子菜单项输入代码，它包括以下几个选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：显示菜单的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：其编辑框用于输入或显示菜单的过程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按钮：用鼠标单击此按钮将打开一个文本编辑窗口，其功能与过程框基本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8305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是菜单栏、菜单标题、下拉菜单、菜单项和子菜单的组合体。规划和设计菜单系统主要是确定需要哪些菜单、出现在界面的何处以及哪些菜单要有子菜单等。创建菜单系统的大量工作是在“菜单设计器”中完成的，在那里可创建实际的菜单标题、子菜单和菜单选项等菜单内容。在创建菜单之前，我们需要先进行菜单系统的规划和设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菜单系统需以下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划与设计系统：确定需要哪些菜单、出现在界面的何处以及哪几个菜单要有子菜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菜单和子菜单：使用菜单设计器可以定义菜单标题、菜单项和子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实际要求为菜单系统指定任务：指定菜单所要执行的任务，如显示表单或对话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菜单程序：运行生成的程序，以测试菜单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144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7:45:23Z</dcterms:created>
  <dc:creator>pcn</dc:creator>
  <dc:description/>
  <dc:language>en-US</dc:language>
  <cp:lastModifiedBy>user</cp:lastModifiedBy>
  <dcterms:modified xsi:type="dcterms:W3CDTF">2002-01-07T07:35:49Z</dcterms:modified>
  <cp:revision>3</cp:revision>
  <dc:subject/>
  <dc:title>没有幻灯片标题</dc:title>
</cp:coreProperties>
</file>